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366-A6EC-436A-AA74-E660E1433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=lining the respiratory tract – mucous from lungs and toward the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to cilia = smoking, abr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epithelium to be a barrier it must have a complete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hesion b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aches to terminal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passage of water and sol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s wastes in the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umen- the space inside a tu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Example- keep waste, digestive juices, enzymes, acids from leaving the digestive tract and entering other tissue where it would caus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d together by channel proteins 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junctional protei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onnex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ions and small molecules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d contractions in heart mus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ton desmosomes – small discs =stabilize 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ells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bending and twisting, stretching, and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strength from dens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ficial area of skin has lots of dense desmosomes = peeling from a sunburn comes off in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luci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ed by epith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 to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dens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logy – the study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against att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Kera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ins add strength and  water res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es repeated cycles of stretching and recoil without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into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= thyroid and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=tears, milk, enzymes into the digestive tract, perspiration on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vesicles (exocytosi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 – 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weat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shedding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amm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cells bursting, killing glan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 cells replaced by ste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baceous gland – hair follicles – oily hair co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un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ou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of secretory portion of the gl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ubu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ube sha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ve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blind po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cin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hamber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 ducts and glandular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ranch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veral secretory areas sharing 1 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ity – tightly pack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 – top and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scular – n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tection =abrasion, dehydration, destruction from chemicals or biological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= withou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= with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ability can be affected by hormones or stress (call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ation = large sensory nerve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=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s = surrounding interstitial fluid an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= exposed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olateral = base and sides of cell to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CB8-2A1A-40A9-AAC9-381EE489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5B8-FB8D-49EF-843A-FBDC5881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728-33AA-445C-8BC5-D9CD74D1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4A4-AFA0-4412-A822-665D9882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AD79-C372-42B0-880E-3BE1DD36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1B66-0B7A-4FF2-A9C9-077947CA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D331-4F0B-48CF-A823-D65C1FA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ABD9-F735-4F0F-989A-6456E5F4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2348-26AD-462B-964C-878E47C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F3A1-4659-40D5-BCFF-F69B0E5A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074E-1808-4560-AC90-BA64618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5EE-0571-47AB-85B9-9B669F8B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56D-A435-4A77-AC7F-738859E7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A3AE-FEAD-41D1-A6ED-7570C8C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0E23-A3A2-4E08-9E74-19EFC4AB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5F5-11A7-4C31-8A9A-B31004BB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9D8A-58D4-42A4-B8CE-E834AC3C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1A8-0AEB-49B6-B998-B6608B3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0E0-A87C-44D8-8201-F4056C2A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07B-2619-4D1F-A73C-C31B80FE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46B-BD3A-45C5-9D12-8AA9523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59B-758B-468E-8FCB-EDC700C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5BE-2E9B-4EAC-A528-6E869930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550-09CA-41B7-8440-706A001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6BBA-5DF2-4ABA-A313-EE9367CD7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559C-85FB-482A-975B-09ADACBC8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4: The Tissue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reasing Surface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Microv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 absorption or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iliated epithelium) move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ive Barri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integrity is maintain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llular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ment to basal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cellular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4152" t="2470" r="0" b="413"/>
          <a:stretch/>
        </p:blipFill>
        <p:spPr>
          <a:xfrm>
            <a:off x="426960" y="1676520"/>
            <a:ext cx="3943440" cy="4422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rge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adhesion molecu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Cell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bonds with other cells or extracellular 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ight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gap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es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ght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 cell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9598" t="18437" r="10402" b="12615"/>
          <a:stretch/>
        </p:blipFill>
        <p:spPr>
          <a:xfrm>
            <a:off x="301680" y="1720800"/>
            <a:ext cx="4194000" cy="4321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p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rapi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17717" r="6406" b="2857"/>
          <a:stretch/>
        </p:blipFill>
        <p:spPr>
          <a:xfrm>
            <a:off x="4960800" y="2289240"/>
            <a:ext cx="3567240" cy="320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moso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dense 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8793" t="10020" r="7328" b="11338"/>
          <a:stretch/>
        </p:blipFill>
        <p:spPr>
          <a:xfrm>
            <a:off x="4035600" y="2436840"/>
            <a:ext cx="4808520" cy="333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achment to Basal Lami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Hemidesmos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0384" t="20576" r="1381" b="10663"/>
          <a:stretch/>
        </p:blipFill>
        <p:spPr>
          <a:xfrm>
            <a:off x="1752480" y="2695680"/>
            <a:ext cx="579132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airing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lacing Epithel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thelia are replaced by division of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erminative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m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basal 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2514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re are 4 types of tissues – We will only study epithelial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e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hape and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6423" t="20083" r="6667" b="12864"/>
          <a:stretch/>
        </p:blipFill>
        <p:spPr>
          <a:xfrm>
            <a:off x="303120" y="2496960"/>
            <a:ext cx="8383680" cy="359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imple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layer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ratified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yers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 Sha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quamous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flat, irregular shaped (fish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uboidal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re shaped (cu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olumnar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shaped (colum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6791" t="13179" r="5211" b="48632"/>
          <a:stretch/>
        </p:blipFill>
        <p:spPr>
          <a:xfrm>
            <a:off x="228600" y="2590920"/>
            <a:ext cx="868680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ified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791" t="52554" r="6061" b="7528"/>
          <a:stretch/>
        </p:blipFill>
        <p:spPr>
          <a:xfrm>
            <a:off x="311040" y="3121200"/>
            <a:ext cx="8597880" cy="290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uboidal epithelium: Example – Kidney 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and absor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999" t="29334" r="2424" b="21651"/>
          <a:stretch/>
        </p:blipFill>
        <p:spPr>
          <a:xfrm>
            <a:off x="839880" y="1297080"/>
            <a:ext cx="8080200" cy="311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uboidal epithelia: Sweat gland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at and mammary 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3517" t="30279" r="2787" b="21021"/>
          <a:stretch/>
        </p:blipFill>
        <p:spPr>
          <a:xfrm>
            <a:off x="301680" y="3427560"/>
            <a:ext cx="83818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itional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3517" t="32940" r="2544" b="24313"/>
          <a:stretch/>
        </p:blipFill>
        <p:spPr>
          <a:xfrm>
            <a:off x="762120" y="3124080"/>
            <a:ext cx="7848360" cy="2978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lumnar epithelium: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ption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17" t="31372" r="2424" b="22436"/>
          <a:stretch/>
        </p:blipFill>
        <p:spPr>
          <a:xfrm>
            <a:off x="461880" y="3205080"/>
            <a:ext cx="8372520" cy="311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stratified columnar epithelium: Tra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lia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17" t="31217" r="2668" b="22590"/>
          <a:stretch/>
        </p:blipFill>
        <p:spPr>
          <a:xfrm>
            <a:off x="457200" y="3352680"/>
            <a:ext cx="8229600" cy="2746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expose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 internal passage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inte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weat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olumnar epithelium: Salivary Gland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393" t="31372" r="3760" b="22275"/>
          <a:stretch/>
        </p:blipFill>
        <p:spPr>
          <a:xfrm>
            <a:off x="536400" y="3427560"/>
            <a:ext cx="82234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ndul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2895120"/>
            <a:ext cx="41940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nd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x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8604" t="18199" r="54913" b="15377"/>
          <a:stretch/>
        </p:blipFill>
        <p:spPr>
          <a:xfrm>
            <a:off x="4654440" y="1604880"/>
            <a:ext cx="4187880" cy="4719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d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horm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ecre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pitheli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des of Secretion – Exocrine Gland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2501" t="4969" r="6927" b="0"/>
          <a:stretch/>
        </p:blipFill>
        <p:spPr>
          <a:xfrm>
            <a:off x="1212840" y="3297240"/>
            <a:ext cx="7097760" cy="3294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5257440"/>
            <a:ext cx="8540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863" t="5376" r="2327" b="0"/>
          <a:stretch/>
        </p:blipFill>
        <p:spPr>
          <a:xfrm>
            <a:off x="838080" y="1379520"/>
            <a:ext cx="7543800" cy="34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685" t="14584" r="15710" b="3866"/>
          <a:stretch/>
        </p:blipFill>
        <p:spPr>
          <a:xfrm>
            <a:off x="762120" y="2438280"/>
            <a:ext cx="8001000" cy="4017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ypes of Secretions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er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muc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ixed exo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erous and muc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land Structure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rine glands can be classifi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unicell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cellular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only unicellular exocrine gl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ed among epithe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Verdana"/>
              </a:rPr>
              <a:t>KEY CONCEP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s are collections of cells and cell products that perform specific, limit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issue types form all the structures of the human bod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, connective, muscle, and n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lasses of exocrine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3274" t="32786" r="3393" b="25727"/>
          <a:stretch/>
        </p:blipFill>
        <p:spPr>
          <a:xfrm>
            <a:off x="304920" y="2971800"/>
            <a:ext cx="8611920" cy="2960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8788" t="31217" r="18912" b="24159"/>
          <a:stretch/>
        </p:blipFill>
        <p:spPr>
          <a:xfrm>
            <a:off x="1716120" y="2590920"/>
            <a:ext cx="6361200" cy="3504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thelial Tiss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s of cells covering internal or extern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that produce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 are the special structures and functions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f epithelial tissu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u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ell j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p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ment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s of 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hysical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rot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erme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specialized secretions (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glandular epithel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Produc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r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rotection and messeng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ee Surface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tached Surfac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355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cal and basolater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2424" t="24313" r="23517" b="16161"/>
          <a:stretch/>
        </p:blipFill>
        <p:spPr>
          <a:xfrm>
            <a:off x="4114800" y="2133720"/>
            <a:ext cx="4641840" cy="3595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2:08:03Z</dcterms:created>
  <dc:creator>janet</dc:creator>
  <dc:description/>
  <dc:language>en-US</dc:language>
  <cp:lastModifiedBy>janet</cp:lastModifiedBy>
  <dcterms:modified xsi:type="dcterms:W3CDTF">2007-02-20T01:13:41Z</dcterms:modified>
  <cp:revision>25</cp:revision>
  <dc:subject/>
  <dc:title>Chapter 4: The Tissue  </dc:title>
</cp:coreProperties>
</file>