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CF0E-13C2-40AE-994B-C4EDFC383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=lining the respiratory tract – mucous from lungs and toward the thr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to cilia = smoking, abr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for epithelium to be a barrier it must have a complete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dhesion be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taches to terminal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s passage of water and solu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s wastes in the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lumen- the space inside a tu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Example- keep waste, digestive juices, enzymes, acids from leaving the digestive tract and entering other tissue where it would cause da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d together by channel proteins (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junctional protei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connex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ions and small molecules to pa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d contractions in heart mus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utton desmosomes – small discs =stabilize 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cells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bending and twisting, stretching, and co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strength from dens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ficial area of skin has lots of dense desmosomes = peeling from a sunburn comes off in sh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emidesmosomes = half of a desmosome = attach cell to basal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emidesmosomes = half of a desmosome = attach cell to basal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emidesmosomes = half of a desmosome = attach cell to basal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Lamina luci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lay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ed by epithe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 to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Lamina dens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fi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connectiv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and 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logy – the study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s against att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Kerat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teins add strength and  water res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es repeated cycles of stretching and recoil without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 into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= thyroid and pitu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=tears, milk, enzymes into the digestive tract, perspiration on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roduced in 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leased by vesicles (exocytosi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ous – 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weat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roduced in 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leased by shedding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mamm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leased by cells bursting, killing glan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nd cells replaced by ste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ebaceous gland – hair follicles – oily hair co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du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imp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undivi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mpou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divi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pe of secretory portion of the gla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ubu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tube shap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ve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blind pocke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cin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chamberlik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 between ducts and glandular are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ranch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several secretory areas sharing 1 du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ity – tightly pack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ity – top and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scular – n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tection =abrasion, dehydration, destruction from chemicals or biological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= withou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= with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ability can be affected by hormones or stress (call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ation = large sensory nerve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on =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engers = surrounding interstitial fluid an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ical = exposed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olateral = base and sides of cell to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68F-D86B-41D6-B7B4-0E79ECE0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FE95-564E-4FA4-A867-DAD4B579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50D1-3FFC-4C2C-8578-E2623D2D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EFF-6704-43F7-8055-A83A279F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40C0-EDCB-49A3-A394-39077010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B560-A909-472F-8500-ABF94706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AEB0-F747-4F5F-9FFE-A2CEBE35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7FA9-460D-4211-9EB5-E9532C88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1A88-391C-4185-9CE1-C3E1A412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716A-6DF6-4DBE-8E7D-8BF22913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22FD-F762-46A9-95EA-E9A6E28E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AD70-2CB6-4951-A3FA-6C96DF11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EE35-2C08-4597-B727-2891C19C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E3CB-0D10-4B40-A408-D4E24B5D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DF07-4792-4A0B-99AD-20701997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D641-98D0-4F59-8E84-A612F22D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2CCE-8483-454E-81DA-9F9ED6AC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97E-CA54-4123-A35E-18F68FDF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206-6591-4109-9BBC-B352435B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B05D-240C-407C-A858-648199AA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0A50-24C3-4757-84DD-D2C7EDF5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627-710C-4359-99DF-4758B213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F72C-A33B-4FC3-8E2F-2E9EF059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E27-D36F-433F-88EE-1E10D6FC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8D9A-74A9-4A51-AC33-74FC796959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64D1-878D-4E19-AEFE-71F75E02C8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apter 4: The Tissue 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vel of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creasing Surface Are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2362320"/>
            <a:ext cx="854064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Microvill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rease absorption or secr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Ci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iliated epithelium) move flu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ffective Barri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integrity is maintain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cellular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hment to basal lam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 and rep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tercellular Conn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and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4152" t="2470" r="0" b="413"/>
          <a:stretch/>
        </p:blipFill>
        <p:spPr>
          <a:xfrm>
            <a:off x="426960" y="1676520"/>
            <a:ext cx="3943440" cy="4422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rge Conn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A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ell adhesion molecules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embrane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Intercellular c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Cell Jun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 bonds with other cells or extracellular materi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tight j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gap j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desm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ight Jun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2 cell membr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19598" t="18437" r="10402" b="12615"/>
          <a:stretch/>
        </p:blipFill>
        <p:spPr>
          <a:xfrm>
            <a:off x="301680" y="1720800"/>
            <a:ext cx="4194000" cy="43210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ap Jun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rapid 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0" t="17717" r="6406" b="2857"/>
          <a:stretch/>
        </p:blipFill>
        <p:spPr>
          <a:xfrm>
            <a:off x="4960800" y="2289240"/>
            <a:ext cx="3567240" cy="3200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smosom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3203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A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 dense are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intercellular 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8793" t="10020" r="7328" b="11338"/>
          <a:stretch/>
        </p:blipFill>
        <p:spPr>
          <a:xfrm>
            <a:off x="4035600" y="2436840"/>
            <a:ext cx="4808520" cy="3333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ttachment to Basal Lami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Hemidesmos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10384" t="20576" r="1381" b="10663"/>
          <a:stretch/>
        </p:blipFill>
        <p:spPr>
          <a:xfrm>
            <a:off x="1752480" y="2695680"/>
            <a:ext cx="5791320" cy="35035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pairing and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placing Epitheli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thelia are replaced by division of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germinative 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tem 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basal lam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3880" y="2514600"/>
            <a:ext cx="64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re are 4 types of tissues – We will only study epithelial now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asses of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shape and 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6423" t="20083" r="6667" b="12864"/>
          <a:stretch/>
        </p:blipFill>
        <p:spPr>
          <a:xfrm>
            <a:off x="303120" y="2496960"/>
            <a:ext cx="8383680" cy="35974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y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imple epitheli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layer of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tratified epitheli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al layers of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ell Shap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quamous epith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, flat, irregular shaped (fish sca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uboidal epith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uare shaped (cub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olumnar epith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l shaped (colum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mple Squamous Epitheliu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6791" t="13179" r="5211" b="48632"/>
          <a:stretch/>
        </p:blipFill>
        <p:spPr>
          <a:xfrm>
            <a:off x="228600" y="2590920"/>
            <a:ext cx="8686800" cy="35035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ratified Squamous Epitheliu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6791" t="52554" r="6061" b="7528"/>
          <a:stretch/>
        </p:blipFill>
        <p:spPr>
          <a:xfrm>
            <a:off x="311040" y="3121200"/>
            <a:ext cx="8597880" cy="2901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uboidal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cuboidal epithelium: Example – Kidney tub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retion and absor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3999" t="29334" r="2424" b="21651"/>
          <a:stretch/>
        </p:blipFill>
        <p:spPr>
          <a:xfrm>
            <a:off x="839880" y="1297080"/>
            <a:ext cx="8080200" cy="31161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uboidal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ed cuboidal epithelia: Sweat gland 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eat and mammary 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rcRect l="3517" t="30279" r="2787" b="21021"/>
          <a:stretch/>
        </p:blipFill>
        <p:spPr>
          <a:xfrm>
            <a:off x="301680" y="3427560"/>
            <a:ext cx="8381880" cy="26701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ransitional Epitheliu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rcRect l="3517" t="32940" r="2544" b="24313"/>
          <a:stretch/>
        </p:blipFill>
        <p:spPr>
          <a:xfrm>
            <a:off x="762120" y="3124080"/>
            <a:ext cx="7848360" cy="29782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umnar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columnar epithelium: Intestinal L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orption and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3517" t="31372" r="2424" b="22436"/>
          <a:stretch/>
        </p:blipFill>
        <p:spPr>
          <a:xfrm>
            <a:off x="461880" y="3205080"/>
            <a:ext cx="8372520" cy="31147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umnar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eudostratified columnar epithelium: Trach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lia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3517" t="31217" r="2668" b="22590"/>
          <a:stretch/>
        </p:blipFill>
        <p:spPr>
          <a:xfrm>
            <a:off x="457200" y="3352680"/>
            <a:ext cx="8229600" cy="27464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Arial"/>
              </a:rPr>
              <a:t>Epithelial Tissu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s expose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The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s internal passageway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The intest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s g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Sweat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umnar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ed columnar epithelium: Salivary Gland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3393" t="31372" r="3760" b="22275"/>
          <a:stretch/>
        </p:blipFill>
        <p:spPr>
          <a:xfrm>
            <a:off x="536400" y="3427560"/>
            <a:ext cx="8223480" cy="26701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landular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2895120"/>
            <a:ext cx="4194000" cy="32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End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ex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rcRect l="8604" t="18199" r="54913" b="15377"/>
          <a:stretch/>
        </p:blipFill>
        <p:spPr>
          <a:xfrm>
            <a:off x="4654440" y="1604880"/>
            <a:ext cx="4187880" cy="4719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ndocrine Glan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ase horm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o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interstitial fl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xocrine Glan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secre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o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epithelial su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Modes of Secretion – Exocrine Glands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ocrine secr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rcRect l="2501" t="4969" r="6927" b="0"/>
          <a:stretch/>
        </p:blipFill>
        <p:spPr>
          <a:xfrm>
            <a:off x="1212840" y="3297240"/>
            <a:ext cx="7097760" cy="32940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des of Secre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5257440"/>
            <a:ext cx="8540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crine secr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rcRect l="2863" t="5376" r="2327" b="0"/>
          <a:stretch/>
        </p:blipFill>
        <p:spPr>
          <a:xfrm>
            <a:off x="838080" y="1379520"/>
            <a:ext cx="7543800" cy="349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des of Secre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ocrine secr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6685" t="14584" r="15710" b="3866"/>
          <a:stretch/>
        </p:blipFill>
        <p:spPr>
          <a:xfrm>
            <a:off x="762120" y="2438280"/>
            <a:ext cx="8001000" cy="40179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Types of Secretions – Exocrine Glan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erous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y secre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Mucous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e muc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Mixed exocrine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serous and muc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Gland Structure – Exocrine Glan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crine glands can be classified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unicellula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multicellul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Unicellular Glan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Goblet 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the only unicellular exocrine glan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ttered among epithe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g.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intestinal l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Verdana"/>
              </a:rPr>
              <a:t>KEY CONCEP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ssues are collections of cells and cell products that perform specific, limit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tissue types form all the structures of the human body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thelial, connective, muscle, and ne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tructure of Multicellular Exocrine Glan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al classes of exocrine g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rcRect l="3274" t="32786" r="3393" b="25727"/>
          <a:stretch/>
        </p:blipFill>
        <p:spPr>
          <a:xfrm>
            <a:off x="304920" y="2971800"/>
            <a:ext cx="8611920" cy="29606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tructure of Multicellular Exocrine Glan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rcRect l="18788" t="31217" r="18912" b="24159"/>
          <a:stretch/>
        </p:blipFill>
        <p:spPr>
          <a:xfrm>
            <a:off x="1716120" y="2590920"/>
            <a:ext cx="6361200" cy="35049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pithelial Tissu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540640" cy="32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Epith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s of cells covering internal or external su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s that produce secre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854064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What are the special structures and functions 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of epithelial tissu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racteristics of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ularity (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cell j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arity (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apic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bas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urfa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achment (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basal lamin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scular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ctions of Epithelial Tissu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54064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physical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perme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 Move fluid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epithelium (prote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fluid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epithelium (permea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sen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 specialized secretions (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glandular epithel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 Produce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cre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protection and messeng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Free Surface and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ttached Surfac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33559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arit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ical and basolateral su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22424" t="24313" r="23517" b="16161"/>
          <a:stretch/>
        </p:blipFill>
        <p:spPr>
          <a:xfrm>
            <a:off x="4114800" y="2133720"/>
            <a:ext cx="4641840" cy="35956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2:08:03Z</dcterms:created>
  <dc:creator>janet</dc:creator>
  <dc:description/>
  <dc:language>en-US</dc:language>
  <cp:lastModifiedBy>janet</cp:lastModifiedBy>
  <dcterms:modified xsi:type="dcterms:W3CDTF">2007-02-20T01:13:41Z</dcterms:modified>
  <cp:revision>25</cp:revision>
  <dc:subject/>
  <dc:title>Chapter 4: The Tissue  </dc:title>
</cp:coreProperties>
</file>