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54FD-B38E-41F9-8BFF-7E21ABE3F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=lining the respiratory tract – mucous from lungs and toward the thr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to cilia = smoking, abra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for epithelium to be a barrier it must have a complete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dhesion bel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ttaches to terminal 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s passage of water and solu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s wastes in the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lumen- the space inside a tub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Example- keep waste, digestive juices, enzymes, acids from leaving the digestive tract and entering other tissue where it would cause da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d together by channel proteins (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junctional protei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connex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ions and small molecules to pa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ed contractions in heart mus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Button desmosomes – small discs =stabilize cell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cells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bending and twisting, stretching, and co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strength from dens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ficial area of skin has lots of dense desmosomes = peeling from a sunburn comes off in she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Hemidesmosomes = half of a desmosome = attach cell to basal la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Hemidesmosomes = half of a desmosome = attach cell to basal la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Hemidesmosomes = half of a desmosome = attach cell to basal la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Lamina luci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lay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ed by epithe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 to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Lamina dens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fi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connectiv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and fil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logy – the study of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s against att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Kerat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oteins add strength and  water res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tes repeated cycles of stretching and recoil without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 into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= thyroid and pitu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=tears, milk, enzymes into the digestive tract, perspiration on the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produced in Golgi appa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released by vesicles (exocytosi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ous – salivary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.g.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weat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produced in Golgi appa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released by shedding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.g.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mamm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released by cells bursting, killing glan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nd cells replaced by stem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.g.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ebaceous gland – hair follicles – oily hair co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duc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imp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undivid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compou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divid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pe of secretory portion of the gla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ubul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tube shap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lveol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blind pocke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cin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chamberlik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 between ducts and glandular are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branch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several secretory areas sharing 1 du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ity – tightly pack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ity – top and bot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scular – no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protection =abrasion, dehydration, destruction from chemicals or biological a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= withou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= with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ability can be affected by hormones or stress (callu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ation = large sensory nerve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on =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engers = surrounding interstitial fluid an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ical = exposed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olateral = base and sides of cell to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0C19-AAB7-4C87-BA44-BBFCAAC5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CED6-8CC0-4F67-81EC-06C64025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9D13-7856-4D6C-A218-0E4BD5F6D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8055-5E0A-4CB0-8B5E-E14C67BB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BAF5-9F00-4ECB-A363-1B81319AC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6409-4706-4320-B692-6527B3A2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0134-656E-484D-9CD5-F2278E78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C1C5-6AC0-4ACD-BD51-35CB5F2E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73D5-27AA-4B04-88F2-C363DE71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EE92-E337-4DF3-8432-F105B45A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D8E7-B95D-4070-92D2-1FB99B47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0804-A957-4F6B-BF3B-632F9869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0871-51E6-43F3-89A8-640F3E1C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A404-C568-44E3-9058-B0E46FED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D120-5305-4DCC-A62A-6ACCF21D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D1DC-1638-4918-88DE-5F3613AAD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D86E-7577-4A3C-9B61-E040A3460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B648-091C-4AD1-8CC5-DDF90600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36EB-B289-4041-B72E-7645D53D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3AB3-EBE2-4D1E-92A4-CB448A58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8A49-BCB0-47C1-806A-4695D8EA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005E-7C45-4F5C-A75F-91F1D57F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557B-5A07-4E56-AAC9-64EA0A75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9464-EAB3-401B-BFFF-ECB30A5E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6C78-E215-4258-9572-73C82C1C02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FF47-4939-4AFA-9A39-A6DFE51CF1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0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apter 4: The Tissue 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vel of Org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creasing Surface Are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2362320"/>
            <a:ext cx="854064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Microvill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crease absorption or secre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Cil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ciliated epithelium) move flu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ffective Barri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integrity is maintained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cellular 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achment to basal lam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enance and rep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ntercellular Conne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and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rcRect l="4152" t="2470" r="0" b="413"/>
          <a:stretch/>
        </p:blipFill>
        <p:spPr>
          <a:xfrm>
            <a:off x="426960" y="1676520"/>
            <a:ext cx="3943440" cy="44226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arge Conne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CA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cell adhesion molecules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membrane prote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Intercellular ce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Arial"/>
              </a:rPr>
              <a:t>Cell Jun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 bonds with other cells or extracellular materi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tight j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gap j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desmos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ight Jun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ween 2 cell membr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19598" t="18437" r="10402" b="12615"/>
          <a:stretch/>
        </p:blipFill>
        <p:spPr>
          <a:xfrm>
            <a:off x="301680" y="1720800"/>
            <a:ext cx="4194000" cy="43210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Gap Jun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 rapid commun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0" t="17717" r="6406" b="2857"/>
          <a:stretch/>
        </p:blipFill>
        <p:spPr>
          <a:xfrm>
            <a:off x="4960800" y="2289240"/>
            <a:ext cx="3567240" cy="32004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esmosom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3203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CA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 dense area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intercellular 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rcRect l="8793" t="10020" r="7328" b="11338"/>
          <a:stretch/>
        </p:blipFill>
        <p:spPr>
          <a:xfrm>
            <a:off x="4035600" y="2436840"/>
            <a:ext cx="4808520" cy="33336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ttachment to Basal Lamin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Hemidesmos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rcRect l="10384" t="20576" r="1381" b="10663"/>
          <a:stretch/>
        </p:blipFill>
        <p:spPr>
          <a:xfrm>
            <a:off x="1752480" y="2695680"/>
            <a:ext cx="5791320" cy="35035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Repairing and 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Replacing Epitheli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thelia are replaced by division of 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germinative cel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stem cel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o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ar 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basal lam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3880" y="2514600"/>
            <a:ext cx="6477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here are 4 types of tissues – We will only study epithelial now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asses of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on shape and la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6423" t="20083" r="6667" b="12864"/>
          <a:stretch/>
        </p:blipFill>
        <p:spPr>
          <a:xfrm>
            <a:off x="303120" y="2496960"/>
            <a:ext cx="8383680" cy="35974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ay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Simple epitheliu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layer of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Stratified epitheliu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ral layers of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ell Shap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Squamous epithel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, flat, irregular shaped (fish sca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Cuboidal epithel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uare shaped (cub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Columnar epithel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l shaped (colum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imple Squamous Epithelium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6791" t="13179" r="5211" b="48632"/>
          <a:stretch/>
        </p:blipFill>
        <p:spPr>
          <a:xfrm>
            <a:off x="228600" y="2590920"/>
            <a:ext cx="8686800" cy="35035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tratified Squamous Epithelium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rcRect l="6791" t="52554" r="6061" b="7528"/>
          <a:stretch/>
        </p:blipFill>
        <p:spPr>
          <a:xfrm>
            <a:off x="311040" y="3121200"/>
            <a:ext cx="8597880" cy="29016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uboidal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5029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cuboidal epithelium: Example – Kidney tub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retion and absor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rcRect l="3999" t="29334" r="2424" b="21651"/>
          <a:stretch/>
        </p:blipFill>
        <p:spPr>
          <a:xfrm>
            <a:off x="839880" y="1297080"/>
            <a:ext cx="8080200" cy="31161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uboidal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ified cuboidal epithelia: Sweat gland 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eat and mammary 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rcRect l="3517" t="30279" r="2787" b="21021"/>
          <a:stretch/>
        </p:blipFill>
        <p:spPr>
          <a:xfrm>
            <a:off x="301680" y="3427560"/>
            <a:ext cx="8381880" cy="26701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ransitional Epithelium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ary blad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rcRect l="3517" t="32940" r="2544" b="24313"/>
          <a:stretch/>
        </p:blipFill>
        <p:spPr>
          <a:xfrm>
            <a:off x="762120" y="3124080"/>
            <a:ext cx="7848360" cy="29782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lumnar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columnar epithelium: Intestinal L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orption and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rcRect l="3517" t="31372" r="2424" b="22436"/>
          <a:stretch/>
        </p:blipFill>
        <p:spPr>
          <a:xfrm>
            <a:off x="461880" y="3205080"/>
            <a:ext cx="8372520" cy="31147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lumnar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eudostratified columnar epithelium: Trach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lia m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3517" t="31217" r="2668" b="22590"/>
          <a:stretch/>
        </p:blipFill>
        <p:spPr>
          <a:xfrm>
            <a:off x="457200" y="3352680"/>
            <a:ext cx="8229600" cy="274644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Arial"/>
              </a:rPr>
              <a:t>Epithelial Tissu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ers exposed su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The sk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es internal passageway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The intest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s g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Sweat 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lumnar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84232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ified columnar epithelium: Salivary Gland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rcRect l="3393" t="31372" r="3760" b="22275"/>
          <a:stretch/>
        </p:blipFill>
        <p:spPr>
          <a:xfrm>
            <a:off x="536400" y="3427560"/>
            <a:ext cx="8223480" cy="26701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Glandular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2895120"/>
            <a:ext cx="4194000" cy="32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Endocr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exocr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rcRect l="8604" t="18199" r="54913" b="15377"/>
          <a:stretch/>
        </p:blipFill>
        <p:spPr>
          <a:xfrm>
            <a:off x="4654440" y="1604880"/>
            <a:ext cx="4187880" cy="47196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ndocrine Glan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ease horm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o </a:t>
            </a: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interstitial fl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xocrine Glan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 secre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to </a:t>
            </a: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epithelial su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 </a:t>
            </a: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Modes of Secretion – Exocrine Glands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ocrine secre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rcRect l="2501" t="4969" r="6927" b="0"/>
          <a:stretch/>
        </p:blipFill>
        <p:spPr>
          <a:xfrm>
            <a:off x="1212840" y="3297240"/>
            <a:ext cx="7097760" cy="32940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odes of Secre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680" y="5257440"/>
            <a:ext cx="85406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ocrine secr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rcRect l="2863" t="5376" r="2327" b="0"/>
          <a:stretch/>
        </p:blipFill>
        <p:spPr>
          <a:xfrm>
            <a:off x="838080" y="1379520"/>
            <a:ext cx="7543800" cy="34974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odes of Secre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ocrine secr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rcRect l="6685" t="14584" r="15710" b="3866"/>
          <a:stretch/>
        </p:blipFill>
        <p:spPr>
          <a:xfrm>
            <a:off x="762120" y="2438280"/>
            <a:ext cx="8001000" cy="40179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Types of Secretions – Exocrine Gland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Serous 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y secre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Mucous 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e muc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Mixed exocrine 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serous and muc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Gland Structure – Exocrine Gland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ocrine glands can be classified 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unicellula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multicellul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Unicellular Glan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Goblet cel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e the only unicellular exocrine glan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ttered among epithe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.g.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intestinal l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7e7ff"/>
                </a:solidFill>
                <a:latin typeface="Verdana"/>
              </a:rPr>
              <a:t>KEY CONCEP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ssues are collections of cells and cell products that perform specific, limited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tissue types form all the structures of the human body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ithelial, connective, muscle, and neu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Structure of Multicellular Exocrine Gland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al classes of exocrine g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rcRect l="3274" t="32786" r="3393" b="25727"/>
          <a:stretch/>
        </p:blipFill>
        <p:spPr>
          <a:xfrm>
            <a:off x="304920" y="2971800"/>
            <a:ext cx="8611920" cy="296064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Structure of Multicellular Exocrine Gland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rcRect l="18788" t="31217" r="18912" b="24159"/>
          <a:stretch/>
        </p:blipFill>
        <p:spPr>
          <a:xfrm>
            <a:off x="1716120" y="2590920"/>
            <a:ext cx="6361200" cy="35049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pithelial Tissu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8540640" cy="32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Epithel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ers of cells covering internal or external su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Gla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s that produce secre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854064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What are the special structures and functions </a:t>
            </a: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of epithelial tissue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racteristics of Epithel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ularity (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cell junc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arity (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apic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bas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urfa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achment (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basal lamin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ascular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en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nctions of Epithelial Tissu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54064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physical pro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perme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 Move fluid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v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epithelium (prote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fluid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roug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epithelium (permeabil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sen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e specialized secretions (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glandular epitheli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 Produce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ecre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protection and messeng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Free Surface and 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Attached Surfac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33559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arity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ical and basolateral su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22424" t="24313" r="23517" b="16161"/>
          <a:stretch/>
        </p:blipFill>
        <p:spPr>
          <a:xfrm>
            <a:off x="4114800" y="2133720"/>
            <a:ext cx="4641840" cy="35956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02:08:03Z</dcterms:created>
  <dc:creator>janet</dc:creator>
  <dc:description/>
  <dc:language>en-US</dc:language>
  <cp:lastModifiedBy>janet</cp:lastModifiedBy>
  <dcterms:modified xsi:type="dcterms:W3CDTF">2007-02-20T01:13:41Z</dcterms:modified>
  <cp:revision>25</cp:revision>
  <dc:subject/>
  <dc:title>Chapter 4: The Tissue  </dc:title>
</cp:coreProperties>
</file>