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C654-B976-45BD-B972-154C36680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43AC-346A-44E2-B662-71B557B6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82DF-EE74-4832-A20B-3188B893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CBCD-41C4-4E04-A24F-5B461E6EC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B20C-9A6C-4AB9-9DA2-687B8C9C2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D6C1-86CB-4E12-98A2-425B467C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B1A7-1FBF-459D-8804-D9A2BF1C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4AE7-45EA-4B96-B2EB-77B22ADB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F5A5-4A24-4C72-8451-147DD8FF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3B22-20C0-4E70-8387-886BB8AF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1381-5EF4-4FEB-BA9F-23D4AAF1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3BA0-2F13-4A0F-95F0-70EB7DE6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CA73-D277-4600-9E0E-B39F149D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C521-57D2-406E-A42D-7A167F94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E936-7F76-4A78-AAA7-C7B0547C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78C4-CD95-46DC-8885-5A4E62618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2E28-9A2E-4A1A-962E-E551BDF9A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F0F8-CA0E-4A30-8904-4242A9B2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61A2-3A1C-462E-A16F-DE5AD93E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16B5-671E-4602-94E0-66645607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AC2D-50C3-4C7F-BFD2-7C5E86AA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8F23-A682-4A32-BC9B-9AC5C098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77A4-E353-41C0-8DE9-C8014575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D737-ACAE-4AFD-A16D-7A4C902F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5A51-87D4-4000-B1DE-AEDFC92F1DF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C397-B30F-4BAC-BD2B-AFB8BF7E962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museum.mnsu.edu/biology/humananatomy/skeletal/skull.html" TargetMode="External"/><Relationship Id="rId2" Type="http://schemas.openxmlformats.org/officeDocument/2006/relationships/hyperlink" Target="http://emuseum.mnsu.edu/biology/humananatomy/skeletal/sternum/sternum.html" TargetMode="External"/><Relationship Id="rId3" Type="http://schemas.openxmlformats.org/officeDocument/2006/relationships/hyperlink" Target="http://emuseum.mnsu.edu/biology/humananatomy/skeletal/ribs/ribs.html" TargetMode="External"/><Relationship Id="rId4" Type="http://schemas.openxmlformats.org/officeDocument/2006/relationships/hyperlink" Target="http://emuseum.mnsu.edu/biology/humananatomy/skeletal/backbone/backbone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KELETA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YSTE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19814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4647960" y="4114440"/>
            <a:ext cx="3809880" cy="19810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3"/>
          <a:srcRect l="0" t="2498" r="-1750" b="6250"/>
          <a:stretch/>
        </p:blipFill>
        <p:spPr>
          <a:xfrm>
            <a:off x="4343400" y="228600"/>
            <a:ext cx="4800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HORT BON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Short bones are short, cube-shap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Found in the wrists and ankl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LAT BON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Flat bones have broad surfaces for protection of organs and attachment of muscle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Ex. ribs, cranial bones, bones of shoulder gird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RREGULAR BON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Irregular bones are all others that do not fall into the previous categori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have varied shapes, sizes, and surface feature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include bones of the vertebrae and a few in the skul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ONE COMPOSI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Compact, or dense bon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spongy, or cancellous, bon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PACT BON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dense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Hard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forms the protective exterior portion of all bon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Passage way for nerves and blood vessels to provide living bone with nutrients and a route for removal of wast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Few spac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PONGY BON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inside the compact bon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very porous (full of tiny holes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Spaces filled with red marrow and blood cells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ONE CELL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bone tissue is composed of 5 types of bone cell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Osteogenic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Osteoblasts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Osteocytes, Osteoclasts, bone-lining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Give the bone strength, collagenous fibers and ground substance to give the bone flexibilit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STEOGENIC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respond to traumas, such as fractures, by giving rise to bone-forming cells and bone-destroying cells.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STEOBLAS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Osteoblasts (bone-forming cells) synthesize and secrete unmineralized ground substance and are found in areas of high metabolism within the bon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STEOCYT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mature bone cells made from osteoblasts that have made bone tissue around themselv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maintain healthy bone tissue by secreting enzymes and controlling the bone mineral conten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control the calcium release from the bone tissue to the bloo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No miotic potential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ON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206 bones form a rigid framework to which the softer tissues and organs of the body are attached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Blood cells produced by the marrow in bon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average of 2.6 million red blood cells are produced each second by the bone marrow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STEOCLAS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are large cells that break down bone tissu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important to bone growth, healing, and remodel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ONE CELL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made from osteoblasts along the surfac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regulate the movement of calcium and phosphate into and out of the bon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RUCTURE OF BON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rcRect l="0" t="8510" r="17149" b="3510"/>
          <a:stretch/>
        </p:blipFill>
        <p:spPr>
          <a:xfrm>
            <a:off x="1295280" y="1295280"/>
            <a:ext cx="61516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RIOSTEU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uter covering that nourishes bon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in connective tissu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harpy’s fibers: connective tissue fibers that secure it to bone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rcRect l="0" t="9801" r="65053" b="12191"/>
          <a:stretch/>
        </p:blipFill>
        <p:spPr>
          <a:xfrm>
            <a:off x="4876920" y="1447920"/>
            <a:ext cx="3182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IAPHYS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haf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Bone’s length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 children filled with red marrow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 adults storage area for yellow marrow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rcRect l="0" t="9801" r="65053" b="12191"/>
          <a:stretch/>
        </p:blipFill>
        <p:spPr>
          <a:xfrm>
            <a:off x="5562720" y="1143000"/>
            <a:ext cx="3581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PIPHYS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nds of long bon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nsists of thin layer of compact bone enclosing area of spongy bon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rcRect l="0" t="9801" r="65053" b="12191"/>
          <a:stretch/>
        </p:blipFill>
        <p:spPr>
          <a:xfrm>
            <a:off x="5181480" y="685800"/>
            <a:ext cx="35816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ON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Bones serve as a storage area for minerals such as calcium and phosphoru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excess is present in the blood, buildup will occur within the bon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supply of these minerals within the blood is low, it will be withdrawn from the bones to replenish the supply in the bod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ON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Bodily movement is carried out by interaction of the muscular and skeletal systems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ssification- formation of bon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KELETAL DIVIS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two distinct parts: axial, appendicula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XIAL REG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axial skeleton consists of bones that form the axis of the body and support and protect the organs of the head, neck, and trunk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The Skull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 Black"/>
              </a:rPr>
              <a:t> </a:t>
            </a:r>
            <a:br>
              <a:rPr sz="2800"/>
            </a:br>
            <a:r>
              <a:rPr b="0" lang="en-US" sz="28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The Sternum</a:t>
            </a:r>
            <a:br>
              <a:rPr sz="2800"/>
            </a:br>
            <a:r>
              <a:rPr b="0" lang="en-US" sz="28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The Ribs</a:t>
            </a:r>
            <a:br>
              <a:rPr sz="2800"/>
            </a:br>
            <a:r>
              <a:rPr b="0" lang="en-US" sz="28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The Vertebral Column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PPENDICUALR REG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appendicular skeleton is composed of bones that anchor the appendages to the axial skelet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The Upper Extremities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The Lower Extremities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The Shoulder Girdle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The Pelvic Girdle--(the sacrum and coccyx are considered part of the vertebral column)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YPES OF BON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long bones, short bones, flat bones, and irregular bon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ONG BON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Long bones are longer than they are wide and work as leve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Arms and leg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20:41:00Z</dcterms:created>
  <dc:creator>Cathy Bryant</dc:creator>
  <dc:description/>
  <dc:language>en-US</dc:language>
  <cp:lastModifiedBy>WCS</cp:lastModifiedBy>
  <dcterms:modified xsi:type="dcterms:W3CDTF">2007-11-07T14:05:54Z</dcterms:modified>
  <cp:revision>7</cp:revision>
  <dc:subject/>
  <dc:title>SKELETAL SYSTEM</dc:title>
</cp:coreProperties>
</file>