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9EF-0B08-4B3B-8994-73FA45D0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23A-DEAE-4C0E-8681-BEA496C6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C05-21C5-4773-8E4C-BFAB110A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5D4-801D-4AB3-A6D6-A4A14A43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A31C-D019-4117-803A-3A25F835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718F-29DC-4983-AD5A-5CDA97F9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310C-34C2-4401-BF01-83423BBD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C2F0-A30B-4270-A6D7-3210C1B3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FE1E-A7E8-4117-9426-A98E7858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7C1E-8D07-4EA2-AEC4-85DE076F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4E44-CBD6-4017-B99A-6CEF6053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055-FCB6-4DAB-A6E6-B91CDEF7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1D44-F507-4671-961C-F54BD068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2B17-6EF4-417F-A4D6-AD4E8101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6E28-1AE2-41C1-B602-0438B73E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0A7F-AA80-425B-BB11-E9EB21AC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B88B-DE24-4CBA-8705-96A10027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C85-EA7F-4CAB-8061-33080FA3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1C8-64BA-4CA7-B04F-DD0F02A8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B96-87F0-4CE9-B1DE-D3AC097A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A86-769D-467C-9190-726D7C0A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1E7-8BCD-4DCC-BB99-C5F06596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E6F-FB50-40AB-9535-FC1F24C4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331-6FAA-4B24-9BFE-AE495C20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9D8D-0585-4D0C-AFC3-8DBFB0B91B7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EBC7-BF40-411A-B320-04BA825D631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museum.mnsu.edu/biology/humananatomy/skeletal/skull.html" TargetMode="External"/><Relationship Id="rId2" Type="http://schemas.openxmlformats.org/officeDocument/2006/relationships/hyperlink" Target="http://emuseum.mnsu.edu/biology/humananatomy/skeletal/sternum/sternum.html" TargetMode="External"/><Relationship Id="rId3" Type="http://schemas.openxmlformats.org/officeDocument/2006/relationships/hyperlink" Target="http://emuseum.mnsu.edu/biology/humananatomy/skeletal/ribs/ribs.html" TargetMode="External"/><Relationship Id="rId4" Type="http://schemas.openxmlformats.org/officeDocument/2006/relationships/hyperlink" Target="http://emuseum.mnsu.edu/biology/humananatomy/skeletal/backbone/backbone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ELET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rcRect l="0" t="2498" r="-1750" b="6250"/>
          <a:stretch/>
        </p:blipFill>
        <p:spPr>
          <a:xfrm>
            <a:off x="4343400" y="22860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HORT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Short bones are short, cube-shap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Found in the wrists and ankl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LAT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Flat bones have broad surfaces for protection of organs and attachment of muscl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Ex. ribs, cranial bones, bones of shoulder gird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REGULAR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rregular bones are all others that do not fall into the previous categor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have varied shapes, sizes, and surface featur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nclude bones of the vertebrae and a few in the sku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 COMPOSI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Compact, or dense b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spongy, or cancellous, b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PACT B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dens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Hard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forms the protective exterior portion of all b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Passage way for nerves and blood vessels to provide living bone with nutrients and a route for removal of wast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Few spac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ONGY B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nside the compact bon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very porous (full of tiny hole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Spaces filled with red marrow and blood cells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 CEL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bone tissue is composed of 5 types of bone cell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steogenic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steoblast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steocytes, Osteoclasts, bone-lining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Give the bone strength, collagenous fibers and ground substance to give the bone flexibilit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STEOGENIC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respond to traumas, such as fractures, by giving rise to bone-forming cells and bone-destroying cells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STEOBLA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Osteoblasts (bone-forming cells) synthesize and secrete unmineralized ground substance and are found in areas of high metabolism within the bon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STEOCYT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mature bone cells made from osteoblasts that have made bone tissue around themselv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maintain healthy bone tissue by secreting enzymes and controlling the bone mineral cont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control the calcium release from the bone tissue to the bloo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o miotic potential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206 bones form a rigid framework to which the softer tissues and organs of the body are attached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Blood cells produced by the marrow in b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verage of 2.6 million red blood cells are produced each second by the bone marr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STEOCLA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are large cells that break down bone tiss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mportant to bone growth, healing, and remode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 CEL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made from osteoblasts along the surfac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regulate the movement of calcium and phosphate into and out of the b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RUCTURE OF B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rcRect l="0" t="8510" r="17149" b="3510"/>
          <a:stretch/>
        </p:blipFill>
        <p:spPr>
          <a:xfrm>
            <a:off x="1295280" y="1295280"/>
            <a:ext cx="6151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RIOSTEU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uter covering that nourishes bo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n connective tissu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harpy’s fibers: connective tissue fibers that secure it to bon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rcRect l="0" t="9801" r="65053" b="12191"/>
          <a:stretch/>
        </p:blipFill>
        <p:spPr>
          <a:xfrm>
            <a:off x="4876920" y="1447920"/>
            <a:ext cx="318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APHY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haf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one’s length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children filled with red marr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adults storage area for yellow marr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rcRect l="0" t="9801" r="65053" b="12191"/>
          <a:stretch/>
        </p:blipFill>
        <p:spPr>
          <a:xfrm>
            <a:off x="5562720" y="1143000"/>
            <a:ext cx="3581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PHY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ds of long b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sists of thin layer of compact bone enclosing area of spongy bo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0" t="9801" r="65053" b="12191"/>
          <a:stretch/>
        </p:blipFill>
        <p:spPr>
          <a:xfrm>
            <a:off x="5181480" y="685800"/>
            <a:ext cx="3581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Bones serve as a storage area for minerals such as calcium and phosphoru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excess is present in the blood, buildup will occur within the b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supply of these minerals within the blood is low, it will be withdrawn from the bones to replenish the supply in the bod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Bodily movement is carried out by interaction of the muscular and skeletal system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ssification- formation of bon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ELETAL DIVI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two distinct parts: axial, appendicul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XIAL REG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xial skeleton consists of bones that form the axis of the body and support and protect the organs of the head, neck, and trun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The Skull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The Sternum</a:t>
            </a:r>
            <a:br>
              <a:rPr sz="2800"/>
            </a:b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The Ribs</a:t>
            </a:r>
            <a:br>
              <a:rPr sz="2800"/>
            </a:b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The Vertebral Column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PENDICUALR REG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ppendicular skeleton is composed of bones that anchor the appendages to the axial skelet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he Upper Extremities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he Lower Extremities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he Shoulder Girdle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he Pelvic Girdle--(the sacrum and coccyx are considered part of the vertebral column)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long bones, short bones, flat bones, and irregular bon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NG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Long bones are longer than they are wide and work as lev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Arms and leg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20:41:00Z</dcterms:created>
  <dc:creator>Cathy Bryant</dc:creator>
  <dc:description/>
  <dc:language>en-US</dc:language>
  <cp:lastModifiedBy>WCS</cp:lastModifiedBy>
  <dcterms:modified xsi:type="dcterms:W3CDTF">2007-11-07T14:05:54Z</dcterms:modified>
  <cp:revision>7</cp:revision>
  <dc:subject/>
  <dc:title>SKELETAL SYSTEM</dc:title>
</cp:coreProperties>
</file>