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D8D-310F-40C6-A0CA-FB49436B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434-7F44-49BE-BB5F-234E691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32A-DF5B-4BB9-8399-D7CF98F1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421-F0D7-46FD-96B2-E9D559D7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ABC9-836E-4659-9938-0F8A5851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8BC6-C527-4EAC-BB60-F6C5366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7597-BA3E-41B5-9BD1-7F87123C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8F93-FE47-426E-9962-22035197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FAA4-092D-484D-9E0D-C7D77CC3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E93F-11F0-4BCD-830C-409F4633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8B54-3DA2-46B6-9DE3-555A2EE7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344-C8AE-47F2-91D4-90885044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7165-9BE5-483D-9F35-7041C8C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7669-955F-4AAB-91E5-C828E26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E75-E5C6-4E83-B9C2-9F38307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9E30-1DED-493E-B475-15F2A291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D0FC-6641-4F7A-BEBB-ECF9D80E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00E-C1FB-4AAB-A69F-C73F39C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1D2-EACF-4416-99E0-056CF241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ECD-49BF-4715-81AA-ECBC0D92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1FA-651C-4109-AECD-516CC189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D46-4C4B-402A-9F68-DA3A893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93B-EEAF-4194-AE3F-2B7E46C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348-C5E4-4F1C-A350-9108BAA0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39F6-AE1A-4F22-BFD9-829F6DD6392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C712-F198-4084-9259-751E67A555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museum.mnsu.edu/biology/humananatomy/skeletal/skull.html" TargetMode="External"/><Relationship Id="rId2" Type="http://schemas.openxmlformats.org/officeDocument/2006/relationships/hyperlink" Target="http://emuseum.mnsu.edu/biology/humananatomy/skeletal/sternum/sternum.html" TargetMode="External"/><Relationship Id="rId3" Type="http://schemas.openxmlformats.org/officeDocument/2006/relationships/hyperlink" Target="http://emuseum.mnsu.edu/biology/humananatomy/skeletal/ribs/ribs.html" TargetMode="External"/><Relationship Id="rId4" Type="http://schemas.openxmlformats.org/officeDocument/2006/relationships/hyperlink" Target="http://emuseum.mnsu.edu/biology/humananatomy/skeletal/backbone/backbone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ELET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rcRect l="0" t="2498" r="-1750" b="6250"/>
          <a:stretch/>
        </p:blipFill>
        <p:spPr>
          <a:xfrm>
            <a:off x="4343400" y="22860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HORT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hort bones are short, cube-sha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Found in the wrists and ank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AT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Flat bones have broad surfaces for protection of organs and attachment of muscl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Ex. ribs, cranial bones, bones of shoulder gird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REGULAR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rregular bones are all others that do not fall into the previous categ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have varied shapes, sizes, and surface featur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nclude bones of the vertebrae and a few in the sku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OMPOS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Compact, or dense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pongy, or cancellous,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CT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dens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Har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orms the protective exterior portion of all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Passage way for nerves and blood vessels to provide living bone with nutrients and a route for removal of was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ew spac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ONGY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nside the compact bon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very porous (full of tiny hole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paces filled with red marrow and blood cells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E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one tissue is composed of 5 types of bone cell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genic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blast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cytes, Osteoclasts, bone-linin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Give the bone strength, collagenous fibers and ground substance to give the bone flexibil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GEN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spond to traumas, such as fractures, by giving rise to bone-forming cells and bone-destroying cell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BLA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Osteoblasts (bone-forming cells) synthesize and secrete unmineralized ground substance and are found in areas of high metabolism within the bon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CY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ture bone cells made from osteoblasts that have made bone tissue around themselv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intain healthy bone tissue by secreting enzymes and controlling the bone mineral cont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control the calcium release from the bone tissue to the bloo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miotic potential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06 bones form a rigid framework to which the softer tissues and organs of the body are attach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lood cells produced by the marrow in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verage of 2.6 million red blood cells are produced each second by the bone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CLA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re large cells that break down bone tiss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mportant to bone growth, healing, and remode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E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ade from osteoblasts along the surfac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gulate the movement of calcium and phosphate into and out of the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 OF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rcRect l="0" t="8510" r="17149" b="3510"/>
          <a:stretch/>
        </p:blipFill>
        <p:spPr>
          <a:xfrm>
            <a:off x="1295280" y="1295280"/>
            <a:ext cx="615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STEU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uter covering that nourishes bo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 connective tissu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arpy’s fibers: connective tissue fibers that secure it to bon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4876920" y="1447920"/>
            <a:ext cx="318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PHY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af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one’s lengt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children filled with red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adults storage area for yellow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5562720" y="1143000"/>
            <a:ext cx="3581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PHY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ds of long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sts of thin layer of compact bone enclosing area of spongy bo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5181480" y="685800"/>
            <a:ext cx="3581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ones serve as a storage area for minerals such as calcium and phosphoru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excess is present in the blood, buildup will occur within the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supply of these minerals within the blood is low, it will be withdrawn from the bones to replenish the supply in the bod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odily movement is carried out by interaction of the muscular and skeletal system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ssification- formation of bon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ELETAL DIV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two distinct parts: axial, appendicul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XIAL REG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xial skeleton consists of bones that form the axis of the body and support and protect the organs of the head, neck, and trun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The Skull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The Sternum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The Ribs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The Vertebral Column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NDICUALR REG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ppendicular skeleton is composed of bones that anchor the appendages to the axial skelet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Upper Extremiti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Lower Extremiti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Shoulder Girdle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Pelvic Girdle--(the sacrum and coccyx are considered part of the vertebral column)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long bones, short bones, flat bones, and irregular bo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NG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Long bones are longer than they are wide and work as lev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rms and leg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20:41:00Z</dcterms:created>
  <dc:creator>Cathy Bryant</dc:creator>
  <dc:description/>
  <dc:language>en-US</dc:language>
  <cp:lastModifiedBy>WCS</cp:lastModifiedBy>
  <dcterms:modified xsi:type="dcterms:W3CDTF">2007-11-07T14:05:54Z</dcterms:modified>
  <cp:revision>7</cp:revision>
  <dc:subject/>
  <dc:title>SKELETAL SYSTEM</dc:title>
</cp:coreProperties>
</file>