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3B4-474F-41A5-96F7-C311EBFC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F6E-6677-45CA-A198-3F505302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CF8-B94A-4C77-A754-7693F788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B0A-B23B-44C6-B999-0DBBB483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1112-23CF-4D5D-A7FF-3D500703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49E5-D399-42D8-9138-923E94CE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54F2-C268-45FE-93A9-C071DC04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6D75-13F0-41B4-B8E8-4934162B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909F-3410-488F-83AB-0646FF96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6076-BF5A-472E-820B-4BDAC0AF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67AC-655D-4E43-9A3C-8BB6893F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2E3-D889-4BFA-94D9-A56F6BB5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9A5E-CE01-4482-8F52-39C693A4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76E0-8D9D-4C37-B464-27DDFB7D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9994-1F81-49C6-8DE5-71DF10B8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067B-81D6-40F2-81A6-D0E3B3B2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1E21-3E22-4F58-886B-E54BA6BD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AB6-6B78-4938-B013-EB695115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599-1CFE-4DDE-9595-8C38884F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4F8-EE9B-4CD0-9016-06299CAC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C8A-D2BA-4FD0-B556-CD356DC4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7C5-B59C-426F-9174-48770204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AE4-F955-46CF-A882-05B9137F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3D2-6B5C-4859-A68D-9DE48759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602B-3BFA-4CAA-969D-B8EC9532D7E8}" type="slidenum"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Cardinal"/>
          <p:cNvPicPr/>
          <p:nvPr/>
        </p:nvPicPr>
        <p:blipFill>
          <a:blip r:embed="rId2"/>
          <a:stretch/>
        </p:blipFill>
        <p:spPr>
          <a:xfrm>
            <a:off x="7543800" y="5029200"/>
            <a:ext cx="104760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Cardinal"/>
          <p:cNvPicPr/>
          <p:nvPr/>
        </p:nvPicPr>
        <p:blipFill>
          <a:blip r:embed="rId2"/>
          <a:stretch/>
        </p:blipFill>
        <p:spPr>
          <a:xfrm flipH="1">
            <a:off x="0" y="0"/>
            <a:ext cx="3029040" cy="231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85B1-3575-4921-BA4F-489DBDAE8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Palatino Linotype"/>
              </a:rPr>
              <a:t>The Urinary System</a:t>
            </a:r>
            <a:endParaRPr b="0" lang="en-US" sz="7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146200"/>
            <a:ext cx="6400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inary Bladder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cumulates &amp; stores urin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ansitional epithelium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uga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igon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loor of the bladd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3 openings (2 ureters, 1urethra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1" name="Picture 8" descr="http://www.web-books.com/eLibrary/Medicine/Physiology/Urinary/bladder.jpg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inary Bladder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ternal urinary sphincte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voluntar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lds up to 1 liter of water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eeling to void at 20%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5" name="Picture 2" descr="http://www.web-books.com/eLibrary/Medicine/Physiology/Urinary/bladder.jpg"/>
          <p:cNvPicPr/>
          <p:nvPr/>
        </p:nvPicPr>
        <p:blipFill>
          <a:blip r:embed="rId1"/>
          <a:stretch/>
        </p:blipFill>
        <p:spPr>
          <a:xfrm>
            <a:off x="0" y="2819520"/>
            <a:ext cx="48006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ethra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assageway between  bladder to the bodies exterio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ntrolled by a voluntary sphinct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Voiding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 infants the external sphincter is not yet under voluntary contro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continence – loss of control of the external sphinct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Voiding Disorder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nuria – lack of urine production (renal failure)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inary retention – urine produced by not expelled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Oliguria – decreased urine produc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olyuria – excessive volumes of ur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Nephron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76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re urine production begin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ocated in the cortex of each renal lob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lows for blood filtra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5" name="Picture 2" descr="http://openlearn.open.ac.uk/file.php/2815/S324_1_029i.jpg"/>
          <p:cNvPicPr/>
          <p:nvPr/>
        </p:nvPicPr>
        <p:blipFill>
          <a:blip r:embed="rId1"/>
          <a:stretch/>
        </p:blipFill>
        <p:spPr>
          <a:xfrm>
            <a:off x="152280" y="1676520"/>
            <a:ext cx="4724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openlearn.open.ac.uk/file.php/2815/S324_1_029i.jpg"/>
          <p:cNvPicPr/>
          <p:nvPr/>
        </p:nvPicPr>
        <p:blipFill>
          <a:blip r:embed="rId2"/>
          <a:stretch/>
        </p:blipFill>
        <p:spPr>
          <a:xfrm>
            <a:off x="0" y="1676520"/>
            <a:ext cx="48578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Function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xcre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limina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Homeostatic Regula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Volume and solute concentra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Homeostasi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Regulate blood volume &amp; blood pressure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Regulate plasma concentrations of sodium, potassium, chloride &amp; other ions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Helps stabilize blood pH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Conserves valuable nutrients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Assists the liver in detoxification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Organs Involved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Kidney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eter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inary bladd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ethra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Kidney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Workhorse of the system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rm in week 5 of human embryology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unctional at week 9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ssociated structures not fully functional until after birth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External Anatomy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ean-shaped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ilaterally located near the abdominal midl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eft kidney little superior to righ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ushioned with f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ward curve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enal arteries &amp; vein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External Anatomy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9" name="Picture 2" descr="http://medicalartlibrary.com/images/kidney-anatomy.jpg"/>
          <p:cNvPicPr/>
          <p:nvPr/>
        </p:nvPicPr>
        <p:blipFill>
          <a:blip r:embed="rId1"/>
          <a:stretch/>
        </p:blipFill>
        <p:spPr>
          <a:xfrm>
            <a:off x="2590920" y="1600200"/>
            <a:ext cx="373356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Internal Anatomy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(kidney) cortex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uperficial layer - light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(kidney) medull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nal pyramids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riangular collections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Urine collectio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pelvi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rine is “dumped” her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3" name="Picture 9" descr="http://i27.photobucket.com/albums/c190/lovesthesunset/anatomy%20and%20physiology/kidneycortexandmedulla2.gif"/>
          <p:cNvPicPr/>
          <p:nvPr/>
        </p:nvPicPr>
        <p:blipFill>
          <a:blip r:embed="rId1"/>
          <a:stretch/>
        </p:blipFill>
        <p:spPr>
          <a:xfrm>
            <a:off x="609480" y="2286000"/>
            <a:ext cx="38862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eter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ong, thin muscular tub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rine transpor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2" descr="http://training.seer.cancer.gov/module_anatomy/images/illu_urinary_system.jpg"/>
          <p:cNvPicPr/>
          <p:nvPr/>
        </p:nvPicPr>
        <p:blipFill>
          <a:blip r:embed="rId1"/>
          <a:stretch/>
        </p:blipFill>
        <p:spPr>
          <a:xfrm>
            <a:off x="4681440" y="2362320"/>
            <a:ext cx="4194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8:19:54Z</dcterms:created>
  <dc:creator>Nan Shastry</dc:creator>
  <dc:description/>
  <dc:language>en-US</dc:language>
  <cp:lastModifiedBy>Janet</cp:lastModifiedBy>
  <dcterms:modified xsi:type="dcterms:W3CDTF">2009-03-22T22:37:53Z</dcterms:modified>
  <cp:revision>11</cp:revision>
  <dc:subject/>
  <dc:title>Slide 1</dc:title>
</cp:coreProperties>
</file>