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DAE5-728D-482A-8F92-C598EDBA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775D-1375-4848-B405-A24E4801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B39E-02ED-4B3E-9552-C7182218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D9ED-279E-4092-BE56-BCF19DB9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0F48-395D-4BEB-815C-B99C8745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B784-B4EA-42A5-8EBE-0FADF62D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7584-9577-4DF3-A406-8DBB82FE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FCC2-96E1-4717-9B03-F98744BC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0F9A-F91A-4921-989C-1561F1DB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268F-F078-41EE-BF9D-443F3E15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1B11-E60F-4817-BD3B-A825A894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CA54-6E19-4868-A175-433EFAAC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51C6-92FE-4C8E-89B3-23ADBB4D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8376-2598-4C79-8076-F32A6F26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1FEB-E55C-4E43-849F-ABFBD145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FCDC-1A4C-4AC3-8D87-67E49AEC3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76D3-12F8-42ED-9F30-136525A24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A6DB-3154-4CBD-AD6D-F06FB413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0A1B-8A72-4CE8-B8DF-3A3AD29E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A045-8CE8-4A48-9982-F928CEB2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1532-2FA6-46C2-84AE-14FEBFA7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1D04-0F78-4675-9060-38150A32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E69E-2289-418B-BC7D-CB58C885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F273-ED8A-4F51-B8BF-0D67294B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5681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4117-9806-4C60-B09C-8FD213E4F90F}" type="slidenum"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Cardinal"/>
          <p:cNvPicPr/>
          <p:nvPr/>
        </p:nvPicPr>
        <p:blipFill>
          <a:blip r:embed="rId2"/>
          <a:stretch/>
        </p:blipFill>
        <p:spPr>
          <a:xfrm>
            <a:off x="7543800" y="5029200"/>
            <a:ext cx="1047600" cy="8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2" descr="Cardinal"/>
          <p:cNvPicPr/>
          <p:nvPr/>
        </p:nvPicPr>
        <p:blipFill>
          <a:blip r:embed="rId2"/>
          <a:stretch/>
        </p:blipFill>
        <p:spPr>
          <a:xfrm flipH="1">
            <a:off x="0" y="0"/>
            <a:ext cx="3029040" cy="2313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5681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02D8-A77B-40AF-8488-CC18E2DFFD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Palatino Linotype"/>
              </a:rPr>
              <a:t>The Urinary System</a:t>
            </a:r>
            <a:endParaRPr b="0" lang="en-US" sz="7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5146200"/>
            <a:ext cx="64008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The Urinary Bladder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ccumulates &amp; stores urine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ransitional epithelium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ugae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rigone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loor of the bladde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3 openings (2 ureters, 1urethra)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1" name="Picture 8" descr="http://www.web-books.com/eLibrary/Medicine/Physiology/Urinary/bladder.jpg"/>
          <p:cNvPicPr/>
          <p:nvPr/>
        </p:nvPicPr>
        <p:blipFill>
          <a:blip r:embed="rId1"/>
          <a:stretch/>
        </p:blipFill>
        <p:spPr>
          <a:xfrm>
            <a:off x="457200" y="2362320"/>
            <a:ext cx="40384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The Urinary Bladder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ternal urinary sphincter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nvoluntary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olds up to 1 liter of water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eeling to void at 20%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5" name="Picture 2" descr="http://www.web-books.com/eLibrary/Medicine/Physiology/Urinary/bladder.jpg"/>
          <p:cNvPicPr/>
          <p:nvPr/>
        </p:nvPicPr>
        <p:blipFill>
          <a:blip r:embed="rId1"/>
          <a:stretch/>
        </p:blipFill>
        <p:spPr>
          <a:xfrm>
            <a:off x="0" y="2819520"/>
            <a:ext cx="48006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The Urethra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Passageway between  bladder to the bodies exterior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ontrolled by a voluntary sphincter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Voiding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In infants the external sphincter is not yet under voluntary contro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Incontinence – loss of control of the external sphincter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Voiding Disorder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Anuria – lack of urine production (renal failure)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rinary retention – urine produced by not expelled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Oliguria – decreased urine production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Polyuria – excessive volumes of urin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Nephron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8765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ere urine production begins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ocated in the cortex of each renal lobe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llows for blood filtration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5" name="Picture 2" descr="http://openlearn.open.ac.uk/file.php/2815/S324_1_029i.jpg"/>
          <p:cNvPicPr/>
          <p:nvPr/>
        </p:nvPicPr>
        <p:blipFill>
          <a:blip r:embed="rId1"/>
          <a:stretch/>
        </p:blipFill>
        <p:spPr>
          <a:xfrm>
            <a:off x="152280" y="1676520"/>
            <a:ext cx="47246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http://openlearn.open.ac.uk/file.php/2815/S324_1_029i.jpg"/>
          <p:cNvPicPr/>
          <p:nvPr/>
        </p:nvPicPr>
        <p:blipFill>
          <a:blip r:embed="rId2"/>
          <a:stretch/>
        </p:blipFill>
        <p:spPr>
          <a:xfrm>
            <a:off x="0" y="1676520"/>
            <a:ext cx="48578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Function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xcretion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limination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Homeostatic Regulation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Volume and solute concentration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Homeostasi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876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alatino Linotype"/>
              </a:rPr>
              <a:t>Regulate blood volume &amp; blood pressure</a:t>
            </a:r>
            <a:endParaRPr b="0" lang="en-US" sz="35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876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alatino Linotype"/>
              </a:rPr>
              <a:t>Regulate plasma concentrations of sodium, potassium, chloride &amp; other ions</a:t>
            </a:r>
            <a:endParaRPr b="0" lang="en-US" sz="35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876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alatino Linotype"/>
              </a:rPr>
              <a:t>Helps stabilize blood pH</a:t>
            </a:r>
            <a:endParaRPr b="0" lang="en-US" sz="35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876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alatino Linotype"/>
              </a:rPr>
              <a:t>Conserves valuable nutrients</a:t>
            </a:r>
            <a:endParaRPr b="0" lang="en-US" sz="35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876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alatino Linotype"/>
              </a:rPr>
              <a:t>Assists the liver in detoxification</a:t>
            </a:r>
            <a:endParaRPr b="0" lang="en-US" sz="35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Organs Involved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Kidney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reter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rinary bladder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rethra 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Kidney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Workhorse of the system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orm in week 5 of human embryology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unctional at week 9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Associated structures not fully functional until after birth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External Anatomy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Bean-shaped 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Bilaterally located near the abdominal midlin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Left kidney little superior to righ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ushioned with f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Inward curve 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Renal arteries &amp; vein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External Anatomy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9" name="Picture 2" descr="http://medicalartlibrary.com/images/kidney-anatomy.jpg"/>
          <p:cNvPicPr/>
          <p:nvPr/>
        </p:nvPicPr>
        <p:blipFill>
          <a:blip r:embed="rId1"/>
          <a:stretch/>
        </p:blipFill>
        <p:spPr>
          <a:xfrm>
            <a:off x="2590920" y="1600200"/>
            <a:ext cx="373356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Internal Anatomy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nal (kidney) cortex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uperficial layer - lighte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nal (kidney) medulla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Renal pyramids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riangular collections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Urine collection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nal pelvi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Urine is “dumped” here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3" name="Picture 9" descr="http://i27.photobucket.com/albums/c190/lovesthesunset/anatomy%20and%20physiology/kidneycortexandmedulla2.gif"/>
          <p:cNvPicPr/>
          <p:nvPr/>
        </p:nvPicPr>
        <p:blipFill>
          <a:blip r:embed="rId1"/>
          <a:stretch/>
        </p:blipFill>
        <p:spPr>
          <a:xfrm>
            <a:off x="609480" y="2286000"/>
            <a:ext cx="38862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The Ureter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ong, thin muscular tube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Urine transpor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7" name="Picture 2" descr="http://training.seer.cancer.gov/module_anatomy/images/illu_urinary_system.jpg"/>
          <p:cNvPicPr/>
          <p:nvPr/>
        </p:nvPicPr>
        <p:blipFill>
          <a:blip r:embed="rId1"/>
          <a:stretch/>
        </p:blipFill>
        <p:spPr>
          <a:xfrm>
            <a:off x="4681440" y="2362320"/>
            <a:ext cx="4194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8:19:54Z</dcterms:created>
  <dc:creator>Nan Shastry</dc:creator>
  <dc:description/>
  <dc:language>en-US</dc:language>
  <cp:lastModifiedBy>Janet</cp:lastModifiedBy>
  <dcterms:modified xsi:type="dcterms:W3CDTF">2009-03-22T22:37:53Z</dcterms:modified>
  <cp:revision>11</cp:revision>
  <dc:subject/>
  <dc:title>Slide 1</dc:title>
</cp:coreProperties>
</file>