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A78-5CFD-4F2C-9319-849D5A4A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A4C-4EFE-4B22-9EF9-63343FD0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E7C-ACB7-469A-A1DC-51BF420C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494-7096-4DA7-ADF4-E75BDA10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243D-4FA6-44C5-A6FB-8006730A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075C-0425-4979-9EA1-13AEE568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A43E-2EAE-4016-801E-7531D447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B131-99B2-484E-9A33-55290A57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890F-341B-4F5D-8395-3855F02C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78EC-DF55-423D-9A9C-9CC66205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254C-540D-4D9E-939F-E89B3F46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433-CD51-4C9A-9F79-9DB40A6E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AB2E-2451-48A1-B463-1E82FF26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5362-259C-4EB0-8867-940B7F7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DA5F-3C17-41A9-8785-07CEF5A3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5423-B1DC-4E11-BAFF-DE60FAAE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F251-5311-4329-AD39-2EE5C8E6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214-B1B7-4B5F-8A54-7B0A18EF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768-D941-41D1-BFA3-15781D9D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12D-52D4-47B1-93A6-FA804CB6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CC5-A5AB-4D3A-AE66-5F15F3B6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4CE-9AF4-4025-B754-62DB2AB6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4D8-E88F-4B92-8856-6E88D32D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68ED-FFA2-449B-92A2-374B809C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45DF-83D1-4CED-ADFA-470E477543A7}" type="slidenum"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Cardinal"/>
          <p:cNvPicPr/>
          <p:nvPr/>
        </p:nvPicPr>
        <p:blipFill>
          <a:blip r:embed="rId2"/>
          <a:stretch/>
        </p:blipFill>
        <p:spPr>
          <a:xfrm>
            <a:off x="7543800" y="5029200"/>
            <a:ext cx="104760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Cardinal"/>
          <p:cNvPicPr/>
          <p:nvPr/>
        </p:nvPicPr>
        <p:blipFill>
          <a:blip r:embed="rId2"/>
          <a:stretch/>
        </p:blipFill>
        <p:spPr>
          <a:xfrm flipH="1">
            <a:off x="0" y="0"/>
            <a:ext cx="3029040" cy="231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83BE-5BBD-4E81-BEB7-4CFC1B6E2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Palatino Linotype"/>
              </a:rPr>
              <a:t>The Urinary System</a:t>
            </a:r>
            <a:endParaRPr b="0" lang="en-US" sz="7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5146200"/>
            <a:ext cx="6400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inary Bladder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cumulates &amp; stores urin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ransitional epithelium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ugae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rigone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loor of the bladd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3 openings (2 ureters, 1urethra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1" name="Picture 8" descr="http://www.web-books.com/eLibrary/Medicine/Physiology/Urinary/bladder.jpg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inary Bladder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ternal urinary sphincter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voluntar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lds up to 1 liter of water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eeling to void at 20%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5" name="Picture 2" descr="http://www.web-books.com/eLibrary/Medicine/Physiology/Urinary/bladder.jpg"/>
          <p:cNvPicPr/>
          <p:nvPr/>
        </p:nvPicPr>
        <p:blipFill>
          <a:blip r:embed="rId1"/>
          <a:stretch/>
        </p:blipFill>
        <p:spPr>
          <a:xfrm>
            <a:off x="0" y="2819520"/>
            <a:ext cx="48006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ethra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assageway between  bladder to the bodies exterio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ontrolled by a voluntary sphincte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Voiding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 infants the external sphincter is not yet under voluntary contro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continence – loss of control of the external sphincte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Voiding Disorder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nuria – lack of urine production (renal failure)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inary retention – urine produced by not expelled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Oliguria – decreased urine produc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olyuria – excessive volumes of urin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Nephron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765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re urine production begin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ocated in the cortex of each renal lob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llows for blood filtra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5" name="Picture 2" descr="http://openlearn.open.ac.uk/file.php/2815/S324_1_029i.jpg"/>
          <p:cNvPicPr/>
          <p:nvPr/>
        </p:nvPicPr>
        <p:blipFill>
          <a:blip r:embed="rId1"/>
          <a:stretch/>
        </p:blipFill>
        <p:spPr>
          <a:xfrm>
            <a:off x="152280" y="1676520"/>
            <a:ext cx="4724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openlearn.open.ac.uk/file.php/2815/S324_1_029i.jpg"/>
          <p:cNvPicPr/>
          <p:nvPr/>
        </p:nvPicPr>
        <p:blipFill>
          <a:blip r:embed="rId2"/>
          <a:stretch/>
        </p:blipFill>
        <p:spPr>
          <a:xfrm>
            <a:off x="0" y="1676520"/>
            <a:ext cx="48578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Function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xcre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limina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Homeostatic Regula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Volume and solute concentration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Homeostasi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Regulate blood volume &amp; blood pressure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Regulate plasma concentrations of sodium, potassium, chloride &amp; other ions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Helps stabilize blood pH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Conserves valuable nutrients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Assists the liver in detoxification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Organs Involved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Kidney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eter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inary bladde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ethra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Kidney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Workhorse of the system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rm in week 5 of human embryology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unctional at week 9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ssociated structures not fully functional until after birth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External Anatomy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ean-shaped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ilaterally located near the abdominal midlin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eft kidney little superior to righ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ushioned with f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ward curve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enal arteries &amp; vein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External Anatomy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9" name="Picture 2" descr="http://medicalartlibrary.com/images/kidney-anatomy.jpg"/>
          <p:cNvPicPr/>
          <p:nvPr/>
        </p:nvPicPr>
        <p:blipFill>
          <a:blip r:embed="rId1"/>
          <a:stretch/>
        </p:blipFill>
        <p:spPr>
          <a:xfrm>
            <a:off x="2590920" y="1600200"/>
            <a:ext cx="373356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Internal Anatomy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nal (kidney) cortex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uperficial layer - light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nal (kidney) medull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enal pyramids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riangular collections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Urine collectio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nal pelvi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rine is “dumped” her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3" name="Picture 9" descr="http://i27.photobucket.com/albums/c190/lovesthesunset/anatomy%20and%20physiology/kidneycortexandmedulla2.gif"/>
          <p:cNvPicPr/>
          <p:nvPr/>
        </p:nvPicPr>
        <p:blipFill>
          <a:blip r:embed="rId1"/>
          <a:stretch/>
        </p:blipFill>
        <p:spPr>
          <a:xfrm>
            <a:off x="609480" y="2286000"/>
            <a:ext cx="38862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eter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ong, thin muscular tub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rine transpor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7" name="Picture 2" descr="http://training.seer.cancer.gov/module_anatomy/images/illu_urinary_system.jpg"/>
          <p:cNvPicPr/>
          <p:nvPr/>
        </p:nvPicPr>
        <p:blipFill>
          <a:blip r:embed="rId1"/>
          <a:stretch/>
        </p:blipFill>
        <p:spPr>
          <a:xfrm>
            <a:off x="4681440" y="2362320"/>
            <a:ext cx="4194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8:19:54Z</dcterms:created>
  <dc:creator>Nan Shastry</dc:creator>
  <dc:description/>
  <dc:language>en-US</dc:language>
  <cp:lastModifiedBy>Janet</cp:lastModifiedBy>
  <dcterms:modified xsi:type="dcterms:W3CDTF">2009-03-22T22:37:53Z</dcterms:modified>
  <cp:revision>11</cp:revision>
  <dc:subject/>
  <dc:title>Slide 1</dc:title>
</cp:coreProperties>
</file>