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636-4EB2-4327-A8FB-0AF95A69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03E-42AF-4A7E-ABB1-1585A9A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891-FB0A-4213-9704-7C15A652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9F7-CC86-436A-A036-7D8B85D8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4B47-3478-499D-91DA-30893B13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F4C8-794F-40D6-AB3B-A25FE25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9939-A953-4692-9FA9-6F8F2E1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9AC7-59A5-4378-A0B5-CA05B7C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06E6-1F31-4C95-8731-61AAF917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46C4-2E3C-4165-9FCC-E54526E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A9FD-C920-46D5-AB46-F31EA78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691-1631-48ED-8486-AB011C1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325D-A071-4F1A-8ECF-72F82AA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1D8A-C8B0-4E4B-BE55-79B75DF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D994-6794-4C31-8913-B32F317F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44F5-F573-48C3-840D-6E26AA28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7EAE-16E5-41C7-AB10-EC0F2103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54A-8752-4236-B9C1-E4B14975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519-7793-470A-AD9E-A578A0AC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FBF-5B7D-43F8-BEF0-A5D860BC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A2F-BFC6-4129-B701-A144C40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F72-6154-4668-AACA-FE4005A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C33-5A71-4C72-9A1E-212F321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BB9-74BE-402D-A9CB-9D1CB14E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B350-4D59-407D-A41F-BAF8A4CB8730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EA9-FC37-413E-BD45-E291FC3CE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Palatino Linotype"/>
              </a:rPr>
              <a:t>The Urinary System</a:t>
            </a:r>
            <a:endParaRPr b="0" lang="en-US" sz="7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1462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umulates &amp; stores urin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nsitional epitheliu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uga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igo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loor of the bladd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 openings (2 ureters, 1urethra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1" name="Picture 8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rnal urinary sphinct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volunt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ds up to 1 liter of wat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 to void at 20%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2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0" y="2819520"/>
            <a:ext cx="4800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hra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ssageway between  bladder to the bodies exterio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lled by a voluntary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 infants the external sphincter is not yet under voluntary contro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continence – loss of control of the external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 Disord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uria – lack of urine production (renal failure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retention – urine produced by not expell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liguria – decreased urine produ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lyuria – excessive volumes of ur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Nephr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re urine production begi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cated in the cortex of each renal lob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ows for blood fil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http://openlearn.open.ac.uk/file.php/2815/S324_1_029i.jpg"/>
          <p:cNvPicPr/>
          <p:nvPr/>
        </p:nvPicPr>
        <p:blipFill>
          <a:blip r:embed="rId1"/>
          <a:stretch/>
        </p:blipFill>
        <p:spPr>
          <a:xfrm>
            <a:off x="152280" y="1676520"/>
            <a:ext cx="472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openlearn.open.ac.uk/file.php/2815/S324_1_029i.jpg"/>
          <p:cNvPicPr/>
          <p:nvPr/>
        </p:nvPicPr>
        <p:blipFill>
          <a:blip r:embed="rId2"/>
          <a:stretch/>
        </p:blipFill>
        <p:spPr>
          <a:xfrm>
            <a:off x="0" y="167652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Functi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Homeostatic Regul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olume and solute concentr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Homeostasi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blood volume &amp; blood pressure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plasma concentrations of sodium, potassium, chloride &amp; other ion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Helps stabilize blood pH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Conserves valuable nutrient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Assists the liver in detoxification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Organs Involve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bladd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hra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Workhorse of the syste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rm in week 5 of human embryology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unctional at week 9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ssociated structures not fully functional until after birth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an-shaped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laterally located near the abdominal mid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eft kidney little superior to righ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shioned with f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ward curve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nal arteries &amp; v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2" descr="http://medicalartlibrary.com/images/kidney-anatomy.jpg"/>
          <p:cNvPicPr/>
          <p:nvPr/>
        </p:nvPicPr>
        <p:blipFill>
          <a:blip r:embed="rId1"/>
          <a:stretch/>
        </p:blipFill>
        <p:spPr>
          <a:xfrm>
            <a:off x="2590920" y="1600200"/>
            <a:ext cx="37335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In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corte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erficial layer - light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medull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nal pyramid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iangular collection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rine collectio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rine is “dumped” he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3" name="Picture 9" descr="http://i27.photobucket.com/albums/c190/lovesthesunset/anatomy%20and%20physiology/kidneycortexandmedulla2.gif"/>
          <p:cNvPicPr/>
          <p:nvPr/>
        </p:nvPicPr>
        <p:blipFill>
          <a:blip r:embed="rId1"/>
          <a:stretch/>
        </p:blipFill>
        <p:spPr>
          <a:xfrm>
            <a:off x="609480" y="2286000"/>
            <a:ext cx="38862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ng, thin muscular tub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rine transpo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2" descr="http://training.seer.cancer.gov/module_anatomy/images/illu_urinary_system.jpg"/>
          <p:cNvPicPr/>
          <p:nvPr/>
        </p:nvPicPr>
        <p:blipFill>
          <a:blip r:embed="rId1"/>
          <a:stretch/>
        </p:blipFill>
        <p:spPr>
          <a:xfrm>
            <a:off x="4681440" y="2362320"/>
            <a:ext cx="4194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8:19:54Z</dcterms:created>
  <dc:creator>Nan Shastry</dc:creator>
  <dc:description/>
  <dc:language>en-US</dc:language>
  <cp:lastModifiedBy>Janet</cp:lastModifiedBy>
  <dcterms:modified xsi:type="dcterms:W3CDTF">2009-03-22T22:37:53Z</dcterms:modified>
  <cp:revision>11</cp:revision>
  <dc:subject/>
  <dc:title>Slide 1</dc:title>
</cp:coreProperties>
</file>