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8570-4744-4F56-9E1B-18CBC1E2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D316-A615-4E3C-80C3-4A6D5453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088B-B909-4A02-9301-25CB4CB3B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46BC-CC04-4A5A-BB0A-3947BFA81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3F2E-614E-4E36-A2F7-923AAF1F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4F0D-2DDB-4732-AA5C-C0555510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7B16-FE36-4902-9F6F-9487F728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D463-6907-461C-A507-4CC15435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4884-1002-499F-ABDB-5C059A63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06ED-ED1B-4E20-B1F2-41BDCF2A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3BAC-183D-4581-AD15-25A18409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3FB3-FA5C-4388-B00B-81350836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B6D4-351E-4FB9-81FC-CDE3BC56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DAB7-C6FB-4561-99AC-DF5C0CDC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F31E-AB7B-451D-9C75-596F0378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6FDC-DF0F-4940-82F0-159597A69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D42E-3186-4878-85EC-C58164CF5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9E60D-F64E-4BE0-A1CC-857BC83D3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50062-B000-46AB-8F41-B3C5A548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5002D-01C2-4E2C-BB53-3BCB9851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F6A2D-E43A-4772-A83E-09ECB4B4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C1EDD-2167-4543-B0EE-43C0BE23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767E-AB7E-469B-BB96-FF90A1E9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63CB5-4C83-4D1C-9A03-63247277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8C379-E924-4676-A4DD-F5C09A5E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3A1B7-3463-48D4-A880-A93DB400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C773A-F03E-49EB-8DE9-04AE9401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D14C8-88C0-4D9E-B63E-36C690DD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537A5-D9B7-4399-A991-98D5375E5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B4552-5105-46F6-8421-33C73F5EF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27C6-65DD-434A-90DD-CA093F19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CE31-5E1F-455A-BAAC-21C8B00B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CA8E-3CC6-4F4B-BF74-B2CDBBE4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399E-17E3-4181-91D2-220E9154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67B6-ACE5-4CEE-BCC0-51E8898A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6070-1970-470B-9B24-1100CF0E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5510-DAA8-410E-AA75-8653066D031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82FB-69C3-4C4F-B578-666FD2905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F808-C887-404D-901B-9A82340661D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keletal Syste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Bone Cell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steocy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ature bone cells that maintain the bone matrix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rcRect l="2115" t="2189" r="2115" b="1534"/>
          <a:stretch/>
        </p:blipFill>
        <p:spPr>
          <a:xfrm>
            <a:off x="5105520" y="1981080"/>
            <a:ext cx="3394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steocy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838080" y="2362320"/>
          <a:ext cx="377028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377028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638320" y="2361960"/>
            <a:ext cx="32734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ve in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lacuna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re between layers (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lamella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) of matri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nect by cytoplasmic extensions through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canaliculi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 lamella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 not divi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Picture 6" descr="NM036b"/>
          <p:cNvPicPr/>
          <p:nvPr/>
        </p:nvPicPr>
        <p:blipFill>
          <a:blip r:embed="rId3"/>
          <a:stretch/>
        </p:blipFill>
        <p:spPr>
          <a:xfrm>
            <a:off x="380880" y="2562120"/>
            <a:ext cx="487692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steocyte Func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o maintain protein and mineral content of matrix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o help repair damaged bon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Arial"/>
              </a:rPr>
              <a:t>Osteoblas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mmature bone cells that secrete matrix compounds (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osteogenesis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Picture 6" descr=""/>
          <p:cNvPicPr/>
          <p:nvPr/>
        </p:nvPicPr>
        <p:blipFill>
          <a:blip r:embed="rId1"/>
          <a:srcRect l="2247" t="2876" r="3591" b="4056"/>
          <a:stretch/>
        </p:blipFill>
        <p:spPr>
          <a:xfrm>
            <a:off x="5267160" y="1600200"/>
            <a:ext cx="33213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steoi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atrix produced by osteoblasts, but not yet calcified to form 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bone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– before calcium salts are deposit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steoblasts surrounded by bone become 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osteocyt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Arial"/>
              </a:rPr>
              <a:t>Osteoprogenitor Ce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senchymal stem cells that divide to produce osteoblasts – respond to local injury by dividing to produce daughter cells (osteoblast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rcRect l="0" t="0" r="792" b="5913"/>
          <a:stretch/>
        </p:blipFill>
        <p:spPr>
          <a:xfrm>
            <a:off x="3124080" y="3687840"/>
            <a:ext cx="4419720" cy="27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steoprogenitor Ce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re located in inner, cellular layer of periosteum (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endosteum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ssist in fracture repai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Arial"/>
              </a:rPr>
              <a:t>Osteoclas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rete acids and protein-digesting enzy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rcRect l="0" t="0" r="0" b="1765"/>
          <a:stretch/>
        </p:blipFill>
        <p:spPr>
          <a:xfrm>
            <a:off x="2895480" y="2844720"/>
            <a:ext cx="487692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steoclas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Giant, mutlinucleate cell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issolve bone matrix and release stored minerals (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osteolysis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re derived from stem cells that produce macrophages – not osteoblas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meosta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Bone building (by osteocytes) and bone recycling (by osteoclasts) must balance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re breakdown than building, bones become wea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ercise causes osteocytes to build b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Arial"/>
              </a:rPr>
              <a:t>What are the types and functions of bone cells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ne (</a:t>
            </a:r>
            <a:r>
              <a:rPr b="1" lang="en-US" sz="3600" spc="-1" strike="noStrike">
                <a:solidFill>
                  <a:srgbClr val="33cccc"/>
                </a:solidFill>
                <a:latin typeface="Arial"/>
              </a:rPr>
              <a:t>Osseou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) Tissu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nse, supportive connective tissu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ontains specialized cell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roduces solid matrix of calcium salt deposi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round collagen fib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cteristics of Bone Tissu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nse 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matrix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, containing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posits of calcium sal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99"/>
                </a:solidFill>
                <a:latin typeface="Arial"/>
              </a:rPr>
              <a:t>bone cell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within </a:t>
            </a:r>
            <a:r>
              <a:rPr b="0" lang="en-US" sz="2800" spc="-1" strike="noStrike">
                <a:solidFill>
                  <a:srgbClr val="99cc99"/>
                </a:solidFill>
                <a:latin typeface="Arial"/>
              </a:rPr>
              <a:t>lacuna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ganized around blood vess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trix Miner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2/3 of bone matrix is 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calcium phosphate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, Ca</a:t>
            </a:r>
            <a:r>
              <a:rPr b="0" lang="en-US" sz="32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(PO</a:t>
            </a:r>
            <a:r>
              <a:rPr b="0" lang="en-US" sz="3200" spc="-1" strike="noStrike" baseline="-25000">
                <a:solidFill>
                  <a:srgbClr val="003366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trix Protei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1/3 of bone matrix is protein fibers (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collagen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cteristics of Bone Tissu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99"/>
                </a:solidFill>
                <a:latin typeface="Arial"/>
              </a:rPr>
              <a:t>Canalicul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m pathways for blood vesse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change nutrients and was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6" descr="450px-Illu_compact_spongy_bone"/>
          <p:cNvPicPr/>
          <p:nvPr/>
        </p:nvPicPr>
        <p:blipFill>
          <a:blip r:embed="rId1"/>
          <a:stretch/>
        </p:blipFill>
        <p:spPr>
          <a:xfrm>
            <a:off x="4114800" y="2362320"/>
            <a:ext cx="473400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cteristics of Bone Tissu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99"/>
                </a:solidFill>
                <a:latin typeface="Arial"/>
              </a:rPr>
              <a:t>Periosteum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overs outer surfaces of bon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onsist of outer </a:t>
            </a:r>
            <a:r>
              <a:rPr b="0" lang="en-US" sz="3200" spc="-1" strike="noStrike">
                <a:solidFill>
                  <a:srgbClr val="99cc99"/>
                </a:solidFill>
                <a:latin typeface="Arial"/>
              </a:rPr>
              <a:t>fibrous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and inner </a:t>
            </a:r>
            <a:r>
              <a:rPr b="0" lang="en-US" sz="3200" spc="-1" strike="noStrike">
                <a:solidFill>
                  <a:srgbClr val="99cc99"/>
                </a:solidFill>
                <a:latin typeface="Arial"/>
              </a:rPr>
              <a:t>cellular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lay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ne Ce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ake up only 2% of bone mass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steocy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steoblas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steoprogenitor ce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steoclas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8T20:06:00Z</dcterms:created>
  <dc:creator>janet</dc:creator>
  <dc:description/>
  <dc:language>en-US</dc:language>
  <cp:lastModifiedBy>Janet</cp:lastModifiedBy>
  <dcterms:modified xsi:type="dcterms:W3CDTF">2009-10-26T00:22:53Z</dcterms:modified>
  <cp:revision>11</cp:revision>
  <dc:subject/>
  <dc:title>Skeletal System</dc:title>
</cp:coreProperties>
</file>