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E9B-FD9E-41B0-8E6F-A696A975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509-D9D1-4BAE-834E-E024A6F1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B79-AFD9-40B5-AB05-34708A78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68E-308D-43BB-A796-7BA46EC2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8989-B1AD-4BA5-8DD9-73C0D5C0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CFAB-1E33-4228-9241-B5CEC381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34D5-6E00-4D00-BC6E-A7AD4335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0730-77F8-4CE3-9D0F-CC5C380F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FFE2-AC5A-46EE-B711-6B464EEF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DA01-ED43-48E6-830C-919C1982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4557-41C0-4DCC-8BE3-581C7B3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28E-2B40-45DC-A081-01439EB0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FB85-A307-4A95-9C17-67B2F8C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74BD-1E7B-4964-A436-117F18A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3A1F-A842-4D94-86DC-62D34281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E645-E39D-4139-AC6B-00CF18CD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EBB0-669D-4439-8483-CE7DEAB6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98B2-7D5E-487B-8E15-3EBD2387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EEA3-8560-496A-AB7C-1B72149A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1A0E-1479-4F86-987E-FA7CEE4D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B2C8-4D37-4297-9FDA-124FC290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55AA-8912-456F-A0AA-ED1E5978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B0F-635A-4B8B-8508-D7816D6F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D775-D5CB-42A0-A9EF-96234962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6FA3-3498-4A3B-BDC9-34CD0A6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443B-CD81-4F5C-ABFD-41890A5E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BD77-CCED-4280-9AFA-0C9C8481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8985-C9D4-49EE-A7BF-87A9AD89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975C-F23C-4D83-BD24-9B1A9799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E0F30-D57E-49BE-8BAE-A545D940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E11-B135-45C5-8C16-2CFC6E7A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4F5-E406-4B2E-B13F-961E608A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ADB-6038-419D-848A-FF72EDE7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4A4-5F63-43E3-A164-F0AAC78F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2FE-9694-4515-B36B-E4D9F28F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2D9-5B0A-42C8-A9B0-813F685C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C14F-CC82-4BE2-965F-298F3DF7A5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E34E-F314-4B7C-9B9B-740329A82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CE27-4C22-4F00-9D78-878C1084B9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keletal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ure bone cells that maintain the bone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2115" t="2189" r="2115" b="1534"/>
          <a:stretch/>
        </p:blipFill>
        <p:spPr>
          <a:xfrm>
            <a:off x="5105520" y="1981080"/>
            <a:ext cx="3394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838080" y="2362320"/>
          <a:ext cx="377028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77028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38320" y="2361960"/>
            <a:ext cx="32734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 in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cun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between layers (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mell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of matr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 by cytoplasmic extensions through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analicul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lamell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not div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" descr="NM036b"/>
          <p:cNvPicPr/>
          <p:nvPr/>
        </p:nvPicPr>
        <p:blipFill>
          <a:blip r:embed="rId3"/>
          <a:stretch/>
        </p:blipFill>
        <p:spPr>
          <a:xfrm>
            <a:off x="380880" y="2562120"/>
            <a:ext cx="48769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maintain protein and mineral content of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help repair damaged b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b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mmature bone cells that secrete matrix compound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gene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2247" t="2876" r="3591" b="4056"/>
          <a:stretch/>
        </p:blipFill>
        <p:spPr>
          <a:xfrm>
            <a:off x="5267160" y="1600200"/>
            <a:ext cx="3321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rix produced by osteoblasts, but not yet calcified to form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bon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– before calcium salts are deposi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steoblasts surrounded by bone becom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cyt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senchymal stem cells that divide to produce osteoblasts – respond to local injury by dividing to produce daughter cells (osteoblas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792" b="5913"/>
          <a:stretch/>
        </p:blipFill>
        <p:spPr>
          <a:xfrm>
            <a:off x="3124080" y="3687840"/>
            <a:ext cx="44197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located in inner, cellular layer of periosteum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endosteu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sist in fracture repai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e acids and protein-digesting enzy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rcRect l="0" t="0" r="0" b="1765"/>
          <a:stretch/>
        </p:blipFill>
        <p:spPr>
          <a:xfrm>
            <a:off x="2895480" y="2844720"/>
            <a:ext cx="4876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iant, mutlinucleat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solve bone matrix and release stored mineral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derived from stem cells that produce macrophages – not osteobla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osta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one building (by osteocytes) and bone recycling (by osteoclasts) must balanc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breakdown than building, bones become we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rcise causes osteocytes to build b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What are the types and functions of bone cell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(</a:t>
            </a: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seo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)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, supportive connective tissu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ains specialized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roduces solid matrix of calcium salt depos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ound collagen fib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matrix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ontaining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osits of calcium sa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bone ce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in 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lacun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ganized around blood ve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Miner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/3 of bone matrix is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alcium phosph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a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Prote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/3 of bone matrix is protein fiber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ollage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Canalicu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 pathways for blood vess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hange nutrients and was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450px-Illu_compact_spongy_bone"/>
          <p:cNvPicPr/>
          <p:nvPr/>
        </p:nvPicPr>
        <p:blipFill>
          <a:blip r:embed="rId1"/>
          <a:stretch/>
        </p:blipFill>
        <p:spPr>
          <a:xfrm>
            <a:off x="4114800" y="2362320"/>
            <a:ext cx="4734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Arial"/>
              </a:rPr>
              <a:t>Periosteum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vers outer surfaces of b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sist of out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fibrou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inn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cellula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lay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ke up only 2% of bone mas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y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b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progenito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20:06:00Z</dcterms:created>
  <dc:creator>janet</dc:creator>
  <dc:description/>
  <dc:language>en-US</dc:language>
  <cp:lastModifiedBy>Janet</cp:lastModifiedBy>
  <dcterms:modified xsi:type="dcterms:W3CDTF">2009-10-26T00:22:53Z</dcterms:modified>
  <cp:revision>11</cp:revision>
  <dc:subject/>
  <dc:title>Skeletal System</dc:title>
</cp:coreProperties>
</file>