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7319-1BA4-4E5D-B4DE-C5BBF1891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B81B-B801-4933-B59A-FBDA7AF8A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9790-DD46-4643-81FD-0A1FE9C73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EAA3-EA36-4D1D-82A7-AA26C2388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208A2-04BE-4028-8555-7E668BFF8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ACE3D-22EC-41D0-87CC-7D545E32A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9FC72-44E2-49B6-9BF2-A245EED8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99032-6862-4306-92AC-74B713D7B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49E1D-A115-4D04-9338-F2DD55085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5490F-2FF8-45D7-A0B3-86201B057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E6F96-ED5F-477F-9F7A-DA8DEC8D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F90B-6BE2-44F0-9D4A-A5B104545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0F77C-47F3-417E-9892-8E4F41A8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6B9E2-C689-489E-AD14-DA8A5842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B3EA9-3555-46A6-9C80-9A7610D57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936E3-3BBB-4EF1-9AD1-B4235A4D8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F9529-5440-4CCC-815A-4219EB7B4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32641-4458-4177-A263-7B48F39C9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53743-AC3E-436C-90A5-AAAE64448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1B1EF-B5D5-400D-A2C1-8EAA127B6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CEA2C-9634-4A4E-97D7-F0EC5D9D4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960D7-59CA-4B40-8767-8C725E9FB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A4BC-B5AC-4DEC-9FBA-2850F5EC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F16AE-56A5-4F8F-ADEE-D110B7AFC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AD17D-4FF6-4219-8BCF-23D1CEAB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978A9-C7A8-48EE-9528-9BFC497E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45BC5-FBE3-493D-AD6A-874C1F1A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D94EE-96C2-4D77-A954-3E1048D92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B37D4-BDC7-48ED-ADA6-A2F58D445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D8374-0ED1-4B81-8FB1-229BEB2E5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57EC-C4DE-4FFA-80BA-098A6E2B7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81C4-B744-4EC2-A947-A77CAF7E6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4D89-85F3-4994-A0AF-0E1EF319B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A92E-61BE-4CF1-9A24-BC66FE87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F4DA-5683-4A5D-BC84-59FCB1DF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6935-F3D8-40D0-97F7-7414088A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028520" indent="-2055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440000" indent="-205560">
              <a:spcBef>
                <a:spcPts val="7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1851480" indent="-205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1851480" indent="-205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1851480" indent="-205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EDE31-ADB8-412C-B53C-56EEB508925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F2282-B9EA-450F-A990-F2D97F9962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0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2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3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028520" indent="-2055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440000" indent="-205560">
              <a:spcBef>
                <a:spcPts val="7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1851480" indent="-205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1851480" indent="-205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1851480" indent="-205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8F33B-8939-460F-902C-22E9E684E93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Skeletal Syste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Bone Cell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steocyt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ature bone cells that maintain the bone matrix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rcRect l="2115" t="2189" r="2115" b="1534"/>
          <a:stretch/>
        </p:blipFill>
        <p:spPr>
          <a:xfrm>
            <a:off x="5105520" y="1981080"/>
            <a:ext cx="339408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steocyt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59" name="Object 4"/>
          <p:cNvGraphicFramePr/>
          <p:nvPr/>
        </p:nvGraphicFramePr>
        <p:xfrm>
          <a:off x="838080" y="2362320"/>
          <a:ext cx="3770280" cy="37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362320"/>
                    <a:ext cx="3770280" cy="37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5638320" y="2361960"/>
            <a:ext cx="32734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ive in 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lacuna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re between layers (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lamella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) of matrix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nect by cytoplasmic extensions through 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canaliculi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n lamella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o not divid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2" name="Picture 6" descr="NM036b"/>
          <p:cNvPicPr/>
          <p:nvPr/>
        </p:nvPicPr>
        <p:blipFill>
          <a:blip r:embed="rId3"/>
          <a:stretch/>
        </p:blipFill>
        <p:spPr>
          <a:xfrm>
            <a:off x="380880" y="2562120"/>
            <a:ext cx="4876920" cy="38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steocyte Func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o maintain protein and mineral content of matrix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o help repair damaged bon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cc"/>
                </a:solidFill>
                <a:latin typeface="Arial"/>
              </a:rPr>
              <a:t>Osteoblas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Immature bone cells that secrete matrix compounds (</a:t>
            </a:r>
            <a:r>
              <a:rPr b="0" lang="en-US" sz="3200" spc="-1" strike="noStrike">
                <a:solidFill>
                  <a:srgbClr val="33cccc"/>
                </a:solidFill>
                <a:latin typeface="Arial"/>
              </a:rPr>
              <a:t>osteogenesis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7" name="Picture 6" descr=""/>
          <p:cNvPicPr/>
          <p:nvPr/>
        </p:nvPicPr>
        <p:blipFill>
          <a:blip r:embed="rId1"/>
          <a:srcRect l="2247" t="2876" r="3591" b="4056"/>
          <a:stretch/>
        </p:blipFill>
        <p:spPr>
          <a:xfrm>
            <a:off x="5267160" y="1600200"/>
            <a:ext cx="332136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steoi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atrix produced by osteoblasts, but not yet calcified to form </a:t>
            </a:r>
            <a:r>
              <a:rPr b="0" lang="en-US" sz="3200" spc="-1" strike="noStrike">
                <a:solidFill>
                  <a:srgbClr val="33cccc"/>
                </a:solidFill>
                <a:latin typeface="Arial"/>
              </a:rPr>
              <a:t>bone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– before calcium salts are deposite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Osteoblasts surrounded by bone become </a:t>
            </a:r>
            <a:r>
              <a:rPr b="0" lang="en-US" sz="3200" spc="-1" strike="noStrike">
                <a:solidFill>
                  <a:srgbClr val="33cccc"/>
                </a:solidFill>
                <a:latin typeface="Arial"/>
              </a:rPr>
              <a:t>osteocyt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cc"/>
                </a:solidFill>
                <a:latin typeface="Arial"/>
              </a:rPr>
              <a:t>Osteoprogenitor Cel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esenchymal stem cells that divide to produce osteoblasts – respond to local injury by dividing to produce daughter cells (osteoblast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2" name="Picture 6" descr=""/>
          <p:cNvPicPr/>
          <p:nvPr/>
        </p:nvPicPr>
        <p:blipFill>
          <a:blip r:embed="rId1"/>
          <a:srcRect l="0" t="0" r="792" b="5913"/>
          <a:stretch/>
        </p:blipFill>
        <p:spPr>
          <a:xfrm>
            <a:off x="3124080" y="3687840"/>
            <a:ext cx="4419720" cy="27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steoprogenitor Cel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re located in inner, cellular layer of periosteum (</a:t>
            </a:r>
            <a:r>
              <a:rPr b="0" lang="en-US" sz="3200" spc="-1" strike="noStrike">
                <a:solidFill>
                  <a:srgbClr val="33cccc"/>
                </a:solidFill>
                <a:latin typeface="Arial"/>
              </a:rPr>
              <a:t>endosteum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ssist in fracture repai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cc"/>
                </a:solidFill>
                <a:latin typeface="Arial"/>
              </a:rPr>
              <a:t>Osteoclas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rete acids and protein-digesting enzym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7" name="Picture 5" descr=""/>
          <p:cNvPicPr/>
          <p:nvPr/>
        </p:nvPicPr>
        <p:blipFill>
          <a:blip r:embed="rId1"/>
          <a:srcRect l="0" t="0" r="0" b="1765"/>
          <a:stretch/>
        </p:blipFill>
        <p:spPr>
          <a:xfrm>
            <a:off x="2895480" y="2844720"/>
            <a:ext cx="487692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steoclas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Giant, mutlinucleate cell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issolve bone matrix and release stored minerals (</a:t>
            </a:r>
            <a:r>
              <a:rPr b="0" lang="en-US" sz="3200" spc="-1" strike="noStrike">
                <a:solidFill>
                  <a:srgbClr val="33cccc"/>
                </a:solidFill>
                <a:latin typeface="Arial"/>
              </a:rPr>
              <a:t>osteolysis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re derived from stem cells that produce macrophages – not osteoblast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meostasi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Bone building (by osteocytes) and bone recycling (by osteoclasts) must balance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re breakdown than building, bones become wea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ercise causes osteocytes to build b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66"/>
                </a:solidFill>
                <a:latin typeface="Arial"/>
              </a:rPr>
              <a:t>What are the types and functions of bone cells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one (</a:t>
            </a:r>
            <a:r>
              <a:rPr b="1" lang="en-US" sz="3600" spc="-1" strike="noStrike">
                <a:solidFill>
                  <a:srgbClr val="33cccc"/>
                </a:solidFill>
                <a:latin typeface="Arial"/>
              </a:rPr>
              <a:t>Osseous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) Tissu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ense, supportive connective tissu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ontains specialized cell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Produces solid matrix of calcium salt deposit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round collagen fiber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aracteristics of Bone Tissu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ense </a:t>
            </a:r>
            <a:r>
              <a:rPr b="0" lang="en-US" sz="3200" spc="-1" strike="noStrike">
                <a:solidFill>
                  <a:srgbClr val="33cccc"/>
                </a:solidFill>
                <a:latin typeface="Arial"/>
              </a:rPr>
              <a:t>matrix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, containing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posits of calcium sal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99"/>
                </a:solidFill>
                <a:latin typeface="Arial"/>
              </a:rPr>
              <a:t>bone cell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within </a:t>
            </a:r>
            <a:r>
              <a:rPr b="0" lang="en-US" sz="2800" spc="-1" strike="noStrike">
                <a:solidFill>
                  <a:srgbClr val="99cc99"/>
                </a:solidFill>
                <a:latin typeface="Arial"/>
              </a:rPr>
              <a:t>lacuna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ganized around blood vesse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atrix Minera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2/3 of bone matrix is </a:t>
            </a:r>
            <a:r>
              <a:rPr b="0" lang="en-US" sz="3200" spc="-1" strike="noStrike">
                <a:solidFill>
                  <a:srgbClr val="33cccc"/>
                </a:solidFill>
                <a:latin typeface="Arial"/>
              </a:rPr>
              <a:t>calcium phosphate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, Ca</a:t>
            </a:r>
            <a:r>
              <a:rPr b="0" lang="en-US" sz="3200" spc="-1" strike="noStrike" baseline="-25000">
                <a:solidFill>
                  <a:srgbClr val="003366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(PO</a:t>
            </a:r>
            <a:r>
              <a:rPr b="0" lang="en-US" sz="3200" spc="-1" strike="noStrike" baseline="-25000">
                <a:solidFill>
                  <a:srgbClr val="003366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atrix Protei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1/3 of bone matrix is protein fibers (</a:t>
            </a:r>
            <a:r>
              <a:rPr b="0" lang="en-US" sz="3200" spc="-1" strike="noStrike">
                <a:solidFill>
                  <a:srgbClr val="33cccc"/>
                </a:solidFill>
                <a:latin typeface="Arial"/>
              </a:rPr>
              <a:t>collagen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aracteristics of Bone Tissu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99"/>
                </a:solidFill>
                <a:latin typeface="Arial"/>
              </a:rPr>
              <a:t>Canaliculi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rm pathways for blood vesse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change nutrients and wast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0" name="Picture 6" descr="450px-Illu_compact_spongy_bone"/>
          <p:cNvPicPr/>
          <p:nvPr/>
        </p:nvPicPr>
        <p:blipFill>
          <a:blip r:embed="rId1"/>
          <a:stretch/>
        </p:blipFill>
        <p:spPr>
          <a:xfrm>
            <a:off x="4114800" y="2362320"/>
            <a:ext cx="4734000" cy="40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aracteristics of Bone Tissu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99"/>
                </a:solidFill>
                <a:latin typeface="Arial"/>
              </a:rPr>
              <a:t>Periosteum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: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overs outer surfaces of bon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onsist of outer </a:t>
            </a:r>
            <a:r>
              <a:rPr b="0" lang="en-US" sz="3200" spc="-1" strike="noStrike">
                <a:solidFill>
                  <a:srgbClr val="99cc99"/>
                </a:solidFill>
                <a:latin typeface="Arial"/>
              </a:rPr>
              <a:t>fibrous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and inner </a:t>
            </a:r>
            <a:r>
              <a:rPr b="0" lang="en-US" sz="3200" spc="-1" strike="noStrike">
                <a:solidFill>
                  <a:srgbClr val="99cc99"/>
                </a:solidFill>
                <a:latin typeface="Arial"/>
              </a:rPr>
              <a:t>cellular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layer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one Cel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ake up only 2% of bone mass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steocy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steoblas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steoprogenitor cel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steoclas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8T20:06:00Z</dcterms:created>
  <dc:creator>janet</dc:creator>
  <dc:description/>
  <dc:language>en-US</dc:language>
  <cp:lastModifiedBy>Janet</cp:lastModifiedBy>
  <dcterms:modified xsi:type="dcterms:W3CDTF">2009-10-26T00:22:53Z</dcterms:modified>
  <cp:revision>11</cp:revision>
  <dc:subject/>
  <dc:title>Skeletal System</dc:title>
</cp:coreProperties>
</file>