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E83-9920-4513-9616-74AD17A4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DB1-31CE-49F9-A2EB-B2CF3830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968-FC4E-4C0E-A81B-BCF579D3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E90-4828-4325-9F4C-66210ABF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EBA7-4909-4F4A-B812-059A6BAE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214D-EFE4-474B-8436-82E2A50A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F641-4288-4B5D-8541-78E6AE8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65C3-D417-4F60-B0A8-D2D8CC01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B83A-FE2A-4F07-B8CE-2EDBA098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5436-55D1-4B34-8BC7-825ABB20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88A4-9C67-4F9D-9266-DA59CBE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11A-CE3B-43CD-823A-2D5D23AE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6D7D-4B8F-40F3-A78B-F442BCB7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BA09-90B9-437C-AEA1-A6371CD4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0927-9521-40E9-BDBD-E908A95C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3CD8-6DDC-499F-AC41-B472C9E9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C5BA-61C0-4E7D-8C10-58AF1F5F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A656-1D42-44C7-8E99-C0C1A764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E082-403D-4C49-A27A-1CE7AB5B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B6DB-7C67-4C9C-815F-863B7A77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A79A-4C21-43B3-9557-CC4AD8D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593D-53FA-4DFC-B251-09A0C210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9CF-3345-4667-B4BD-6558319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AE61-ED05-4AED-88AD-42AFF2C4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8A53-CB10-4DE6-BEA1-6763B49B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3CB5-5023-443A-A8B7-BA4FA05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704D-9233-4ABA-8B30-5D816F9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3A2D-F491-4047-A1FF-A27057D6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7AF3-C1F6-44B5-B447-4C82A6C9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6037-F223-4FEF-920B-6A56B229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656-7FFF-4D46-A819-E49D4B7A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42D-CEB0-4C13-88C9-ECBABEA0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8C4-057D-4E12-9D77-11605AC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4A8-60C6-4254-871C-84D01B4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20D-8811-4441-AB75-250A6589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18C-EA42-4E13-9047-B35D76E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8DA5-B8BD-425D-A666-52B4AB877A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EDFE-DE63-4048-B9F2-58BA0109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6A39-318B-46E9-A3A5-81CFAA1476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keletal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ure bone cells that maintain the bone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2115" t="2189" r="2115" b="1534"/>
          <a:stretch/>
        </p:blipFill>
        <p:spPr>
          <a:xfrm>
            <a:off x="5105520" y="1981080"/>
            <a:ext cx="3394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838080" y="2362320"/>
          <a:ext cx="377028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77028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38320" y="2361960"/>
            <a:ext cx="32734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 in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cun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between layers (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mell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of 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 by cytoplasmic extensions through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analicul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lamell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not div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" descr="NM036b"/>
          <p:cNvPicPr/>
          <p:nvPr/>
        </p:nvPicPr>
        <p:blipFill>
          <a:blip r:embed="rId3"/>
          <a:stretch/>
        </p:blipFill>
        <p:spPr>
          <a:xfrm>
            <a:off x="380880" y="2562120"/>
            <a:ext cx="48769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maintain protein and mineral content of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help repair damaged b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b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mmature bone cells that secrete matrix compound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gene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2247" t="2876" r="3591" b="4056"/>
          <a:stretch/>
        </p:blipFill>
        <p:spPr>
          <a:xfrm>
            <a:off x="5267160" y="1600200"/>
            <a:ext cx="3321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rix produced by osteoblasts, but not yet calcified to form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bon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– before calcium salts are deposi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steoblasts surrounded by bone becom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cyt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senchymal stem cells that divide to produce osteoblasts – respond to local injury by dividing to produce daughter cells (osteoblas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792" b="5913"/>
          <a:stretch/>
        </p:blipFill>
        <p:spPr>
          <a:xfrm>
            <a:off x="3124080" y="3687840"/>
            <a:ext cx="4419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located in inner, cellular layer of periosteum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endosteu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sist in fracture repai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e acids and protein-digesting enzy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0" t="0" r="0" b="1765"/>
          <a:stretch/>
        </p:blipFill>
        <p:spPr>
          <a:xfrm>
            <a:off x="2895480" y="2844720"/>
            <a:ext cx="4876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iant, mutlinucleat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solve bone matrix and release stored mineral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derived from stem cells that produce macrophages – not osteobla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osta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one building (by osteocytes) and bone recycling (by osteoclasts) must balanc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breakdown than building, bones become we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rcise causes osteocytes to build b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What are the types and functions of bone cell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(</a:t>
            </a: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seo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)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, supportive connective tiss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ains specialized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duces solid matrix of calcium salt depos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ound collagen fib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matrix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ontaining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osits of calcium sa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bone ce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in 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lacun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ganized around blood ve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Miner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/3 of bone matrix is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alcium phosph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a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Prote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/3 of bone matrix is protein fiber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ollage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Canalicu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 pathways for blood vess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nutrients and was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450px-Illu_compact_spongy_bone"/>
          <p:cNvPicPr/>
          <p:nvPr/>
        </p:nvPicPr>
        <p:blipFill>
          <a:blip r:embed="rId1"/>
          <a:stretch/>
        </p:blipFill>
        <p:spPr>
          <a:xfrm>
            <a:off x="4114800" y="2362320"/>
            <a:ext cx="4734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Arial"/>
              </a:rPr>
              <a:t>Periosteum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vers outer surfaces of b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sist of out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fibrou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inn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cellula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lay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ke up only 2% of bone mas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y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b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progenito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0:06:00Z</dcterms:created>
  <dc:creator>janet</dc:creator>
  <dc:description/>
  <dc:language>en-US</dc:language>
  <cp:lastModifiedBy>Janet</cp:lastModifiedBy>
  <dcterms:modified xsi:type="dcterms:W3CDTF">2009-10-26T00:22:53Z</dcterms:modified>
  <cp:revision>11</cp:revision>
  <dc:subject/>
  <dc:title>Skeletal System</dc:title>
</cp:coreProperties>
</file>