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439-0EC3-4C1E-9EB1-154A997A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281-DE27-4523-90A3-CAC495BC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74F-28F4-4CCD-948B-95C84430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10E-6EE5-4AFA-9F1C-8F89D380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2650-5736-4B84-BA44-DD271115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0E0D-7BA4-4D80-8F3A-A9FC4077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B7F4-8259-4B49-9830-D4518970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037B-2DA5-4BE9-94C7-860DD839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EBC1-A0FD-423A-8F93-D4A5BD91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3AAF-4C80-46B7-8870-DA703750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2106-B469-4847-B550-D7C562D4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41C-FDD5-4475-9B69-EC7FDB21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BA16-B0FF-4AD5-BC98-308D67F7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8DA3-D362-4007-B19C-24C0A84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22D4-B108-4DDC-8505-A577D4B0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0AA7-9A10-4D33-8756-97ABA94F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F7A1-6231-4062-9EE1-41D465F1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5ACF8-5152-4A21-851B-F24141FA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C937-EDA3-49FD-986D-C1E52575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DE6C-A5FF-4D33-8B19-920DD52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7B45-D90F-4E58-B6C2-19735DFB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44FB-C1D4-4FC6-81D9-8EBCD1CA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378-BD77-41B6-8755-AA640CA0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CEA5-3416-4F75-9EF8-4CE5D4C8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72583-72CB-419C-BE7A-B69F9E50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82E5-808A-4421-BC0E-9C1EB0B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43C2-3BC0-4096-A47C-A165455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83D4-3FD1-43C6-9F70-BBC92220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F7AF-C571-4C2B-A657-1C4FCD56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1ACB-6907-4CC0-9146-90E7D849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43B-4FE7-4DFA-AD9D-5C4326C1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034-621F-466C-909A-B5D9700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996-C8CE-4905-A9EE-0AEBB288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AD2-52DA-4AD2-A885-F0B4F69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BDD-5F72-4EAA-A9C0-A55232B2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215-44BD-42A6-80E7-6A0F79D6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9D59-6486-4E19-B92F-AAE2248674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6725-06C1-4873-B28A-B14C2BC58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EB9D-FC65-4CEA-96D3-9C29EA6B4E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keletal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ure bone cells that maintain the bone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2115" t="2189" r="2115" b="1534"/>
          <a:stretch/>
        </p:blipFill>
        <p:spPr>
          <a:xfrm>
            <a:off x="5105520" y="1981080"/>
            <a:ext cx="3394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838080" y="2362320"/>
          <a:ext cx="377028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77028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38320" y="2361960"/>
            <a:ext cx="32734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 in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cun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between layers (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mell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of matr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 by cytoplasmic extensions through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analicul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lamell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not div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" descr="NM036b"/>
          <p:cNvPicPr/>
          <p:nvPr/>
        </p:nvPicPr>
        <p:blipFill>
          <a:blip r:embed="rId3"/>
          <a:stretch/>
        </p:blipFill>
        <p:spPr>
          <a:xfrm>
            <a:off x="380880" y="2562120"/>
            <a:ext cx="48769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maintain protein and mineral content of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help repair damaged b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b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mmature bone cells that secrete matrix compound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gene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2247" t="2876" r="3591" b="4056"/>
          <a:stretch/>
        </p:blipFill>
        <p:spPr>
          <a:xfrm>
            <a:off x="5267160" y="1600200"/>
            <a:ext cx="3321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rix produced by osteoblasts, but not yet calcified to form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bon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– before calcium salts are deposi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steoblasts surrounded by bone becom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cyt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senchymal stem cells that divide to produce osteoblasts – respond to local injury by dividing to produce daughter cells (osteoblas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792" b="5913"/>
          <a:stretch/>
        </p:blipFill>
        <p:spPr>
          <a:xfrm>
            <a:off x="3124080" y="3687840"/>
            <a:ext cx="44197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located in inner, cellular layer of periosteum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endosteu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sist in fracture repai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e acids and protein-digesting enzy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rcRect l="0" t="0" r="0" b="1765"/>
          <a:stretch/>
        </p:blipFill>
        <p:spPr>
          <a:xfrm>
            <a:off x="2895480" y="2844720"/>
            <a:ext cx="4876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iant, mutlinucleat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solve bone matrix and release stored mineral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derived from stem cells that produce macrophages – not osteobla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osta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one building (by osteocytes) and bone recycling (by osteoclasts) must balanc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breakdown than building, bones become we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rcise causes osteocytes to build b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What are the types and functions of bone cell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(</a:t>
            </a: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seo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)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, supportive connective tissu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ains specialized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roduces solid matrix of calcium salt depos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ound collagen fib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matrix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ontaining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osits of calcium sa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bone ce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in 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lacun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ganized around blood ve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Miner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/3 of bone matrix is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alcium phosph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a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Prote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/3 of bone matrix is protein fiber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ollage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Canalicu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 pathways for blood vess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hange nutrients and was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450px-Illu_compact_spongy_bone"/>
          <p:cNvPicPr/>
          <p:nvPr/>
        </p:nvPicPr>
        <p:blipFill>
          <a:blip r:embed="rId1"/>
          <a:stretch/>
        </p:blipFill>
        <p:spPr>
          <a:xfrm>
            <a:off x="4114800" y="2362320"/>
            <a:ext cx="4734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Arial"/>
              </a:rPr>
              <a:t>Periosteum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vers outer surfaces of b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sist of out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fibrou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inn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cellula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lay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ke up only 2% of bone mas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y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b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progenito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20:06:00Z</dcterms:created>
  <dc:creator>janet</dc:creator>
  <dc:description/>
  <dc:language>en-US</dc:language>
  <cp:lastModifiedBy>Janet</cp:lastModifiedBy>
  <dcterms:modified xsi:type="dcterms:W3CDTF">2009-10-26T00:22:53Z</dcterms:modified>
  <cp:revision>11</cp:revision>
  <dc:subject/>
  <dc:title>Skeletal System</dc:title>
</cp:coreProperties>
</file>