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187-B42D-494D-A63D-2D846848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786-7A99-4E03-9B8E-3651BDE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E06-BD70-425F-9A1C-855F8DE6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676-1C53-4BAB-B2FA-BCFE8DED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ED0D-F6A4-4BBB-B705-3322C5EF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A275-8CBE-449A-B434-99DE4651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740-142D-49C1-B58A-DD72B213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6466-7B55-4D08-8F21-90374862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4ED6-82F0-4A8D-A5DD-964D53E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FBD6-DC70-4E76-A52B-0B4D05C7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27F7-9BAD-44AE-B09E-563BB9E9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071-5391-4DE1-8C83-D8127983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5591-D95C-483B-BA5F-D193FB2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281-7F95-4C79-979F-887B848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10FA-225A-400F-BCB2-F8209BE5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E085-4FFE-4B5E-A83E-2C7C18A1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DBA-3BEF-4562-B2AF-4F30FE7C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026-0F70-4478-B824-998627D7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881-2540-4CB4-9AF5-79E6B67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6EC-6D19-4DA5-A227-6F98689E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525-DDB4-4E43-96DC-AA5A09D3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C00-D9D7-4AC9-A686-F975E95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E51-0FF6-4A1D-92B4-64D86AE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078-4229-482D-A04D-480570E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F4E2-D315-46FA-A6D1-D03736E0A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4AED-C55E-4A4A-AEB7-FA6FF0626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The Integumentary Syste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derlying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cr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s, water, and organic wastes (gl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dy temperature (insulation and evapo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nthe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tamin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uch, pressure, pain, and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17524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What are the main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structures and functions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of the epider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 of the 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rati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large amounts of ker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abundant cells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 stratified squamous epithe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s and oxygen diffuse from capillaries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most of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4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er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rmal rid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ge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y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ranul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y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layers of skin on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lucid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palms and s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integumentary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– 30 cell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istant – not water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ck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the palms of the hands and soles of th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5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Life Cy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5–30 days for a cell to move from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germ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2787480"/>
            <a:ext cx="818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causes different 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kin col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gmen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irculation (red ce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arot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nge-yellow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orange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es in epidermal cells and fatty tissues of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onverted to vitami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-brown or black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d in transport vesicl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to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 of 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n protects skin from su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ltraviolet (UV) rad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DNA mutations and burns which lead to cancer and wri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 melanin production, not number of mela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pillarie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ated red blood contributes to skin col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dilate from heat, skin red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decreases, skin 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ze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gu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argest system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of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to 2 m</a:t>
            </a:r>
            <a:r>
              <a:rPr b="0" lang="en-US" sz="2800" spc="-1" strike="noStrike" baseline="4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ish skin t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severe reduction in blood flow or oxyge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nes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und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bile produced by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ison’s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 diseases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dar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are the structures and functions of the derm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ocated between epidermis and subcutaneous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hors epidermal accessory structures (hair follicles, sweat gland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due to collagen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, due to elastic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kin turg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Da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ng and wrinkles (reduced skin elasticity) are caus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exp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and elastic fibers in the derm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rranged in parallel bu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 force in a specific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Impor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nes of cleav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 important patter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allel cut remains shut, heal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t across (right angle) pulls open and s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13" t="13505" r="22219" b="11382"/>
          <a:stretch/>
        </p:blipFill>
        <p:spPr>
          <a:xfrm>
            <a:off x="2822400" y="1600200"/>
            <a:ext cx="25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rmal Cir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24992" t="26808" r="24634" b="19688"/>
          <a:stretch/>
        </p:blipFill>
        <p:spPr>
          <a:xfrm>
            <a:off x="1643040" y="160020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ument is made up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taneous membra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k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or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subcutaneous 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ypo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ypo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below the inte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s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parat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are the skin gland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d secre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il glan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weat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ple branched alveolar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hair foll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3274" t="30118" r="2787" b="22744"/>
          <a:stretch/>
        </p:blipFill>
        <p:spPr>
          <a:xfrm>
            <a:off x="534960" y="2362320"/>
            <a:ext cx="8302680" cy="376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lipids and other 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bricates and protects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ibits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16240" y="1752480"/>
            <a:ext cx="470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functio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f sweat g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rmpits, around nipples, and g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on body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palms and 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p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s, not apoc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with hair foll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ticky, cloudy secre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and cause o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umentary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87" t="18039" r="1699" b="11141"/>
          <a:stretch/>
        </p:blipFill>
        <p:spPr>
          <a:xfrm>
            <a:off x="609480" y="1596960"/>
            <a:ext cx="8001000" cy="452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ed, tubula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ble per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, salts, an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Merocrine Sw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es water and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es microorganisms and harmful chemicals fro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taneous Membra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epithelium (epithelial tiss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e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ory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te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rough the epidermis to skin surf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ellular ex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tory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in the 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receptors for pain, touch, and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ubcutaneous Lay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(superficial fascia or hypodermi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the derm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hypodermic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3:44:39Z</dcterms:created>
  <dc:creator>janet</dc:creator>
  <dc:description/>
  <dc:language>en-US</dc:language>
  <cp:lastModifiedBy>PritchaJ</cp:lastModifiedBy>
  <dcterms:modified xsi:type="dcterms:W3CDTF">2008-10-02T12:58:52Z</dcterms:modified>
  <cp:revision>6</cp:revision>
  <dc:subject/>
  <dc:title>Chapter 5:  The Integumentary System</dc:title>
</cp:coreProperties>
</file>