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9D8F-0885-4FE0-B1F5-5DF96E23A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921D-D976-4D4A-8936-3C1C65C50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0CB3-3524-4EE1-8A06-074DA92CA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0967-B560-4A87-BCDE-B5A345276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6F3E4-31B0-4834-B52F-A4AA82797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2663B-CCA1-4A23-9BA0-BDDF7689A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61BC9-C1BF-4AAF-A476-41223B150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9DDD4-2723-4C54-96E4-01B1D6C1F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2222D-A287-433C-ABE3-A0563515A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FB66D-A012-4F46-AFC7-65B90DFB5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1EE6F-D609-4901-AB2C-86A335A3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51B3-51DC-418E-A395-B741EA185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0C682-AC13-43F5-8CAB-0E58221C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1276C-B348-4FE3-B829-16586F41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25C53-9567-492A-8CEE-DC8FC4795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A53DF-FF7F-4769-80CB-8E6C9F1B0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B23A2-019B-4BF1-9A9D-EB85892EF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AD70-84E8-4DB8-AB31-87DA87B72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3BDE-0F88-45AF-B8A5-6F944A16E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BC9B-E52D-4A4D-9772-5572A9BE0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6B67-979C-43E3-82EB-A881A1F6B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513C-CA5E-461C-89E9-0AA12362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5564-03E1-411B-B0B6-101204D5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9E78-5EC1-4B23-A091-2FB2254C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60AC3-22B0-4EC4-862E-096E0619CF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16571-EF91-4873-885C-62EA22CEAB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rial"/>
              </a:rPr>
              <a:t>Chapter 5: </a:t>
            </a:r>
            <a:br>
              <a:rPr sz="4800"/>
            </a:br>
            <a:r>
              <a:rPr b="1" lang="en-US" sz="4800" spc="-1" strike="noStrike">
                <a:solidFill>
                  <a:srgbClr val="ccecff"/>
                </a:solidFill>
                <a:latin typeface="Arial"/>
              </a:rPr>
              <a:t>The Integumentary System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unctions of Sk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rotec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underlying tissues and org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xcret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alts, water, and organic wastes (gland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aintai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ody temperature (insulation and evapor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unctions of Sk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ynthesiz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vitamin D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tor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lipi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etec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uch, pressure, pain, and temper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676520" y="1752480"/>
            <a:ext cx="6629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Arial"/>
              </a:rPr>
              <a:t>What are the main </a:t>
            </a:r>
            <a:br>
              <a:rPr sz="4000"/>
            </a:br>
            <a:r>
              <a:rPr b="1" i="1" lang="en-US" sz="4000" spc="-1" strike="noStrike">
                <a:solidFill>
                  <a:srgbClr val="ccecff"/>
                </a:solidFill>
                <a:latin typeface="Arial"/>
              </a:rPr>
              <a:t>structures and functions </a:t>
            </a:r>
            <a:br>
              <a:rPr sz="4000"/>
            </a:br>
            <a:r>
              <a:rPr b="1" i="1" lang="en-US" sz="4000" spc="-1" strike="noStrike">
                <a:solidFill>
                  <a:srgbClr val="ccecff"/>
                </a:solidFill>
                <a:latin typeface="Arial"/>
              </a:rPr>
              <a:t>of the epiderm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ells of the Epiderm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Keratinocyt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in large amounts of kerat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ost abundant cells in the epiderm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piderm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ascular stratified squamous epithel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trients and oxygen diffuse from capillaries in the derm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in Sk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vers most of the bod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4 layers of keratinocy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yer of sk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tum germinativ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pidermal ridg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age 156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tum spinos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iny lay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 156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tum granulos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iny lay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5 layers of skin onl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tum lucid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ly in palms and sol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What are the structures 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and functions of the integumentary syste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156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tum corne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– 30 cell lay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 resistant – not waterproo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ick Sk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vers the palms of the hands and soles of the fe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5 layers of keratinocy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kin Life Cyc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takes 15–30 days for a cell to move from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tratum germinosu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tratum corne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219320" y="2787480"/>
            <a:ext cx="818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ecff"/>
                </a:solidFill>
                <a:latin typeface="Arial"/>
              </a:rPr>
              <a:t>What causes different </a:t>
            </a:r>
            <a:br>
              <a:rPr sz="4400"/>
            </a:br>
            <a:r>
              <a:rPr b="1" i="1" lang="en-US" sz="4400" spc="-1" strike="noStrike">
                <a:solidFill>
                  <a:srgbClr val="ccecff"/>
                </a:solidFill>
                <a:latin typeface="Arial"/>
              </a:rPr>
              <a:t>skin color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kin Col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in color depends 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igments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aroten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elan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ood circulation (red cell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Carote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ange-yellow pig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nd in orange vege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umulates in epidermal cells and fatty tissues of the derm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be converted to vitamin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Melan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llow-brown or black pig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d by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melanocyt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stratum germinativ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ored in transport vesicles (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melanosom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ferred to keratinocy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unction of Melanocyt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lanin protects skin from sun dam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Ultraviolet (UV) radi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s DNA mutations and burns which lead to cancer and wrink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elanocyt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in color depends on melanin production, not number of melanocy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pillaries and Skin Col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xygenated red blood contributes to skin color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ood vessels dilate from heat, skin redde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ood flow decreases, skin p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ize of the Integu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integum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the largest system of the bod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6% of body we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5 to 2 m</a:t>
            </a:r>
            <a:r>
              <a:rPr b="0" lang="en-US" sz="2800" spc="-1" strike="noStrike" baseline="4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Cyanos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uish skin t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sed by severe reduction in blood flow or oxyge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llness and Skin Col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Jaundi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ildup of bile produced by li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ellow col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Addison’s diseas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other diseases of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ituitary g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kin darke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3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ecff"/>
                </a:solidFill>
                <a:latin typeface="Arial"/>
              </a:rPr>
              <a:t>What are the structures and functions of the dermis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</a:t>
            </a: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Derm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located between epidermis and subcutaneous l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chors epidermal accessory structures (hair follicles, sweat glands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haracteristics of Derm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ong, due to collagen fib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astic, due to elastic fib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exible (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kin turg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kin Dam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gging and wrinkles (reduced skin elasticity) are caused b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hyd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rmonal cha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V exposu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ines of Cleav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agen and elastic fibers in the dermi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arranged in parallel bund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ist force in a specific dir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nical Importan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Lines of cleavag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stablish important patter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arallel cut remains shut, heals w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ut across (right angle) pulls open and sca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ines of Cleav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26413" t="13505" r="22219" b="11382"/>
          <a:stretch/>
        </p:blipFill>
        <p:spPr>
          <a:xfrm>
            <a:off x="2822400" y="1600200"/>
            <a:ext cx="2587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rmal Circul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rcRect l="24992" t="26808" r="24634" b="19688"/>
          <a:stretch/>
        </p:blipFill>
        <p:spPr>
          <a:xfrm>
            <a:off x="1643040" y="1600200"/>
            <a:ext cx="5857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arts of the Integu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ntegument is made up of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par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utaneous membran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sk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ccessory struc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What are the structures 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and functions of the subcutaneous lay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Hypoderm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ubcutaneous lay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hypoderm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es below the integu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bilizes the sk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s separate mo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What are the skin glands </a:t>
            </a:r>
            <a:br>
              <a:rPr sz="4400"/>
            </a:b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and secretion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xocrine Glan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ebaceous gland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oil glands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locrine gl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rete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b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weat gland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rocrine gl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y secre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Sebaceous Glan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imple branched alveolar gland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ociated with hair follicl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ebaceous follicl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harge directly onto skin su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ebaceous Glan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rcRect l="3274" t="30118" r="2787" b="22744"/>
          <a:stretch/>
        </p:blipFill>
        <p:spPr>
          <a:xfrm>
            <a:off x="534960" y="2362320"/>
            <a:ext cx="8302680" cy="3760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ebu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ins lipids and other ingred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ubricates and protects the epiderm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hibits bac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216240" y="1752480"/>
            <a:ext cx="4708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What are the functions 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of sweat glan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Sweat Glan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Apocri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nd in armpits, around nipples, and gro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Merocri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dely distributed on body su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pecially on palms and so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Apocrine Sweat Glan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ocrine secretions, not apocr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ociated with hair folli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 sticky, cloudy secre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ak down and cause od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arts of the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Integumentary System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rcRect l="2787" t="18039" r="1699" b="11141"/>
          <a:stretch/>
        </p:blipFill>
        <p:spPr>
          <a:xfrm>
            <a:off x="609480" y="1596960"/>
            <a:ext cx="8001000" cy="4527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erocrine Sweat Glan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so called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eccrine gland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iled, tubular gl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harge directly onto skin su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sible perspi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, salts, and organic compou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unctions of Merocrine Swe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ls sk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retes water and electroly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ushes microorganisms and harmful chemicals from sk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arts of the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utaneous Membran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er </a:t>
            </a:r>
            <a:r>
              <a:rPr b="0" lang="en-US" sz="3200" spc="-1" strike="noStrike">
                <a:solidFill>
                  <a:srgbClr val="0088e4"/>
                </a:solidFill>
                <a:latin typeface="Arial"/>
              </a:rPr>
              <a:t>epiderm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erficial epithelium (epithelial tissu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ner </a:t>
            </a:r>
            <a:r>
              <a:rPr b="0" lang="en-US" sz="3200" spc="-1" strike="noStrike">
                <a:solidFill>
                  <a:srgbClr val="0088e4"/>
                </a:solidFill>
                <a:latin typeface="Arial"/>
              </a:rPr>
              <a:t>derm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nective tiss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ccessory Structur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iginate in the derm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end through the epidermis to skin surfa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i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cellular exocrine gl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nec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rculatory syste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ood vessels in the derm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rvous syste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sory receptors for pain, touch, and temper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Subcutaneous Lay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ubcutaneous lay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88e4"/>
                </a:solidFill>
                <a:latin typeface="Arial"/>
              </a:rPr>
              <a:t>(superficial fascia or hypodermis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ose connective tiss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ow the derm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tion of hypodermic inj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1T23:44:39Z</dcterms:created>
  <dc:creator>janet</dc:creator>
  <dc:description/>
  <dc:language>en-US</dc:language>
  <cp:lastModifiedBy>PritchaJ</cp:lastModifiedBy>
  <dcterms:modified xsi:type="dcterms:W3CDTF">2008-10-02T12:58:52Z</dcterms:modified>
  <cp:revision>6</cp:revision>
  <dc:subject/>
  <dc:title>Chapter 5:  The Integumentary System</dc:title>
</cp:coreProperties>
</file>