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F27-0963-4371-BF69-3BA6D8AA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859-C962-4F58-ABBC-142DEA37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004-04E7-4458-8F0F-832ADA18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B0A-6D30-4CBB-AF50-CDBEA7A2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6BB4-5F51-436E-ADB9-AA9A7676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34DE-2D6C-4AAD-BE32-70832906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E605-9B8D-4925-B065-3F697598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2705-A4C1-4237-A4F7-463E556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2A71-0CBC-419F-9B92-B6141CA7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ED4-0C43-4364-88B6-9F809F5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CA9D-FBEF-4666-B6F1-C70D070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E40-F6FB-4248-ABA5-8633E1D5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B8E1-9D48-4A82-9A9E-BD3B980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D030-15B6-40B7-92BE-25F4C6BB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FDC-99C7-429C-BC39-6DA2427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6A42-346B-42E7-8CFA-0A27A4A7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FBA4-69B4-4F90-8698-05608026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9C2-3E98-4792-BB63-44A7FF9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7F3-AE16-4FBA-A685-A035652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02C-D7EF-42F0-8AB6-C392B469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665-2A94-427A-B0FF-45D06D1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707-F71F-474E-BAA0-A9226CF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8EB-E06B-48A0-A9CD-2402837B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524-344B-463B-A25A-AF78471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3B5-E4C4-447F-8B49-DA402B1AE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2C1C-31DD-40E3-BF79-15C29D0D1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The Integumentary Syste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derlying tissues an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cr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s, water, and organic wastes (gl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i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dy temperature (insulation and evapo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nthe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tamin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uch, pressure, pain, and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6520" y="17524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What are the main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structures and functions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of the epider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 of the 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rati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large amounts of ker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abundant cells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 stratified squamous epithe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s and oxygen diffuse from capillaries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most of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4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er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rmal rid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ge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spin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y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ranul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y lay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layers of skin on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lucid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 palms and s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integumentary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– 30 cell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sistant – not water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ck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the palms of the hands and soles of th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5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Life Cy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5–30 days for a cell to move from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germin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2787480"/>
            <a:ext cx="818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causes different 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skin col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gmen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irculation (red ce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arot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nge-yellow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orange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es in epidermal cells and fatty tissues of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onverted to vitami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-brown or black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d in transport vesicl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ed to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 of 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n protects skin from su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ltraviolet (UV) rad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DNA mutations and burns which lead to cancer and wri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 melanin production, not number of mela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pillarie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ated red blood contributes to skin col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dilate from heat, skin red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decreases, skin 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ze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gu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argest system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of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to 2 m</a:t>
            </a:r>
            <a:r>
              <a:rPr b="0" lang="en-US" sz="2800" spc="-1" strike="noStrike" baseline="4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ish skin t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severe reduction in blood flow or oxyge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nes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und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bile produced by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ison’s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 diseases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dar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are the structures and functions of the derm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ocated between epidermis and subcutaneous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hors epidermal accessory structures (hair follicles, sweat gland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, due to collagen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, due to elastic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kin turg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Dam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ng and wrinkles (reduced skin elasticity) are caus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exp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and elastic fibers in the derm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rranged in parallel bu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 force in a specific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Impor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nes of cleav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 important patter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allel cut remains shut, heal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ut across (right angle) pulls open and s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6413" t="13505" r="22219" b="11382"/>
          <a:stretch/>
        </p:blipFill>
        <p:spPr>
          <a:xfrm>
            <a:off x="2822400" y="1600200"/>
            <a:ext cx="25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rmal Cir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24992" t="26808" r="24634" b="19688"/>
          <a:stretch/>
        </p:blipFill>
        <p:spPr>
          <a:xfrm>
            <a:off x="1643040" y="160020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gument is made up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utaneous membra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k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cessory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subcutaneous 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ypo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ypo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below the inte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es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parat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are the skin glands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d secre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il gland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weat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mple branched alveolar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hair foll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follic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3274" t="30118" r="2787" b="22744"/>
          <a:stretch/>
        </p:blipFill>
        <p:spPr>
          <a:xfrm>
            <a:off x="534960" y="2362320"/>
            <a:ext cx="8302680" cy="376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lipids and other ingred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bricates and protects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ibits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16240" y="1752480"/>
            <a:ext cx="470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functio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f sweat g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p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rmpits, around nipples, and g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r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ly distributed on body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on palms and 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p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s, not apoc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with hair foll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ticky, cloudy secre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and cause o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umentary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87" t="18039" r="1699" b="11141"/>
          <a:stretch/>
        </p:blipFill>
        <p:spPr>
          <a:xfrm>
            <a:off x="609480" y="1596960"/>
            <a:ext cx="8001000" cy="452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c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ed, tubula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ble per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, salts, an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Merocrine Sw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es water and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es microorganisms and harmful chemicals fro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taneous Membra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epithelium (epithelial tiss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e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ory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te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rough the epidermis to skin surf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ellular ex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tory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in the 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receptors for pain, touch, and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ubcutaneous Lay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(superficial fascia or hypodermi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the derm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hypodermic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3:44:39Z</dcterms:created>
  <dc:creator>janet</dc:creator>
  <dc:description/>
  <dc:language>en-US</dc:language>
  <cp:lastModifiedBy>PritchaJ</cp:lastModifiedBy>
  <dcterms:modified xsi:type="dcterms:W3CDTF">2008-10-02T12:58:52Z</dcterms:modified>
  <cp:revision>6</cp:revision>
  <dc:subject/>
  <dc:title>Chapter 5:  The Integumentary System</dc:title>
</cp:coreProperties>
</file>