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22E-9091-4AA3-8B5A-8BFD5434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6DC-E6EA-491D-8D5E-E1159C7A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646-FEC7-42CD-96D3-79AFDD98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867-ACC6-4BA7-939C-B130FFD4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9531-C11A-4186-BC31-916B7C8C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94C0-E481-48C8-A04D-1A3A9195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A45E-3399-41E1-9224-8DFF289D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5992-CC2A-48B0-84B0-CA18CAEA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36B9-07BF-49B8-A3A1-4869EFD1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1471-8C1F-4804-A021-1159EF28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720-5F54-4A79-9A2A-F85B4290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127-5EF2-4891-9E68-5FDA8873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68C0-441C-4C0C-A1A3-C758E790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D74D-65F0-4E92-B068-4CFB0633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3FED-FD13-4527-8667-F29D9546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7170-6F5A-4D3D-9C18-E89C9747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1F50-69BA-4EAA-B56B-F753ED57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557-FF17-4323-9703-F3CEDC7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D9A-9A3F-451B-AF4A-18A44B10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48A-BE66-4BCB-94BF-28E1E2D1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1FC-5B36-40FA-83C8-ACA03F2F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2ED-E1FB-46B7-9079-7DDB93C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D17-A004-4A97-8B57-86DA1B9D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355-0BCD-403B-A1BD-E641374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C03F-052E-406E-9D4D-2B2EF7D40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86FF-1911-4A3F-B1F0-93E884443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Chapter 5: 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The Integumentary Syste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derlying tissues and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cre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ts, water, and organic wastes (gla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int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dy temperature (insulation and evapo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ynthesi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tamin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uch, pressure, pain, and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76520" y="17524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What are the main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structures and functions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of the epiderm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s of the 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rati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 large amounts of ker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abundant cells in the epi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 stratified squamous epithel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s and oxygen diffuse from capillaries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most of the bo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4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er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rmal rid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ge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spin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ny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ranul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y lay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 layers of skin on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lucid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 palms and s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integumentary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– 30 cell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resistant – not water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ck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the palms of the hands and soles of th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5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Life Cy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15–30 days for a cell to move from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germinos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2787480"/>
            <a:ext cx="818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causes different </a:t>
            </a:r>
            <a:br>
              <a:rPr sz="4400"/>
            </a:b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skin col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gment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rot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irculation (red ce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arot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nge-yellow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orange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mulates in epidermal cells and fatty tissues of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onverted to vitami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-brown or black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d in transport vesicl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red to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 of 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anin protects skin from sun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ltraviolet (UV) rad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DNA mutations and burns which lead to cancer and wri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 melanin production, not number of mela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pillarie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ated red blood contributes to skin col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dilate from heat, skin redd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low decreases, skin 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ze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egu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largest system of the bo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% of body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 to 2 m</a:t>
            </a:r>
            <a:r>
              <a:rPr b="0" lang="en-US" sz="2800" spc="-1" strike="noStrike" baseline="4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ish skin t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severe reduction in blood flow or oxyge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nes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und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bile produced by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llow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ison’s dis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 diseases of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dark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are the structures and functions of the derm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located between epidermis and subcutaneous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hors epidermal accessory structures (hair follicles, sweat gland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 of 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, due to collagen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stic, due to elastic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kin turg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Dam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ng and wrinkles (reduced skin elasticity) are caus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V exp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and elastic fibers in the dermi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arranged in parallel bu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 force in a specific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Import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nes of cleav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blish important patter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allel cut remains shut, heal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ut across (right angle) pulls open and s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26413" t="13505" r="22219" b="11382"/>
          <a:stretch/>
        </p:blipFill>
        <p:spPr>
          <a:xfrm>
            <a:off x="2822400" y="1600200"/>
            <a:ext cx="258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rmal Circ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24992" t="26808" r="24634" b="19688"/>
          <a:stretch/>
        </p:blipFill>
        <p:spPr>
          <a:xfrm>
            <a:off x="1643040" y="1600200"/>
            <a:ext cx="585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s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gument is made up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utaneous membra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k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cessory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subcutaneous 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ypo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ypo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s below the inte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es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parat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are the skin glands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d secre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il gland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b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weat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mple branched alveolar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hair folli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follic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3274" t="30118" r="2787" b="22744"/>
          <a:stretch/>
        </p:blipFill>
        <p:spPr>
          <a:xfrm>
            <a:off x="534960" y="2362320"/>
            <a:ext cx="8302680" cy="376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lipids and other ingred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bricates and protects the epi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ibits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16240" y="1752480"/>
            <a:ext cx="470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functio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f sweat g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p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armpits, around nipples, and g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r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ly distributed on body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on palms and s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p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s, not apoc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with hair foll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ticky, cloudy secre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down and cause o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gumentary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87" t="18039" r="1699" b="11141"/>
          <a:stretch/>
        </p:blipFill>
        <p:spPr>
          <a:xfrm>
            <a:off x="609480" y="1596960"/>
            <a:ext cx="8001000" cy="452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r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c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iled, tubular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ble per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, salts, and orga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Merocrine Sw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es water and electrol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shes microorganisms and harmful chemicals from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taneous Membra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icial epithelium (epithelial tiss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e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ory Stru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te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rough the epidermis to skin surfa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ellular ex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ne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tory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in the 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receptors for pain, touch, and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ubcutaneous Lay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(superficial fascia or hypodermi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connectiv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the derm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of hypodermic in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3:44:39Z</dcterms:created>
  <dc:creator>janet</dc:creator>
  <dc:description/>
  <dc:language>en-US</dc:language>
  <cp:lastModifiedBy>PritchaJ</cp:lastModifiedBy>
  <dcterms:modified xsi:type="dcterms:W3CDTF">2008-10-02T12:58:52Z</dcterms:modified>
  <cp:revision>6</cp:revision>
  <dc:subject/>
  <dc:title>Chapter 5:  The Integumentary System</dc:title>
</cp:coreProperties>
</file>