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596-844F-423D-B121-8C2FDEE6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FC0-94E0-4E00-A0BB-265FC79B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B49-D368-4AC4-B57C-F65DAC53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84F-F45A-4998-A30F-E70A8421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B4E8-8DA1-4989-821D-B0672E2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063E-3B9A-470B-A34F-703FFD7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627-DFAD-4D43-A9CE-E97ABBA8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882C-FF3C-46A4-9557-199A47D2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E4C9-5EB7-4741-8752-C0BE9F6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531A-0E87-4082-9DF6-C9FE0E7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EED-4744-4453-8269-492C5FA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E93-14BE-4372-8F2A-A32F0E8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9D6E-BAFB-4A9A-A38C-13082B3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C15B-81BA-475D-BA27-3E2B05D4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D962-348F-4705-BFCC-81E3FDFF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C1DB-8EBB-41B3-A030-1DB14B86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BF42-5A19-4DE3-A151-F0E2416E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80E-F9E5-4D7A-BC75-43029034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858-0A2B-421C-B81A-99C2246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8F6-8452-42A3-BE6F-C139E2A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FD2-27F8-48CF-812B-4DF4EB6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08B-6A43-4D7B-8D8D-46768A6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532-6780-4ED5-920A-2F35EFB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F0C-D9D8-4EC1-945F-1915E80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4A49-3AC9-487A-869B-707097D03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DBD0-FF85-4297-8101-A581A8F8A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The Integumentary Syste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derlying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cr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s, water, and organic wastes (gl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i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dy temperature (insulation and evapo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nthe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tamin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uch, pressure, pain, and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6520" y="17524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What are the main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structures and functions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of the epider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s of the 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rati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 large amounts of ker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abundant cells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 stratified squamous epithe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s and oxygen diffuse from capillaries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most of the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4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er of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rmal rid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ge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spin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y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 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granulo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y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 layers of skin on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lucid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 palms and s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integumentary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– 30 cell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sistant – not water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ck Sk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the palms of the hands and soles of th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5 layers of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Life Cy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5–30 days for a cell to move from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germinos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ratum cor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2787480"/>
            <a:ext cx="818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causes different 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skin col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gment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irculation (red ce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arot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nge-yellow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orange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es in epidermal cells and fatty tissues of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onverted to vitami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lan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-brown or black pi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stratum germinati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d in transport vesicles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an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ed to kerati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 of 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n protects skin from su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ltraviolet (UV) rad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DNA mutations and burns which lead to cancer and wri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olor depends on melanin production, not number of melan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pillarie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ated red blood contributes to skin col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dilate from heat, skin red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decreases, skin 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ze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tegu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largest system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of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to 2 m</a:t>
            </a:r>
            <a:r>
              <a:rPr b="0" lang="en-US" sz="2800" spc="-1" strike="noStrike" baseline="4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ish skin t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severe reduction in blood flow or oxyge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lness and Skin Col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und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bile produced by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ison’s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 diseases of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dar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What are the structures and functions of the derm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ocated between epidermis and subcutaneous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hors epidermal accessory structures (hair follicles, sweat gland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due to collagen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stic, due to elastic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kin turg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kin Dam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ng and wrinkles (reduced skin elasticity) are caus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exp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and elastic fibers in the derm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rranged in parallel bu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 force in a specific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Import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nes of cleav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 important patter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allel cut remains shut, heal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t across (right angle) pulls open and s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es of Cleav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13" t="13505" r="22219" b="11382"/>
          <a:stretch/>
        </p:blipFill>
        <p:spPr>
          <a:xfrm>
            <a:off x="2822400" y="1600200"/>
            <a:ext cx="25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rmal Cir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24992" t="26808" r="24634" b="19688"/>
          <a:stretch/>
        </p:blipFill>
        <p:spPr>
          <a:xfrm>
            <a:off x="1643040" y="160020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Integ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ument is made up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taneous membra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k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cessor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structure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d functions of the subcutaneous 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ypoderm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ypo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below the inte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s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parat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are the skin gland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d secre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il glan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weat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ple branched alveolar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hair folli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baceous follic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aceous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3274" t="30118" r="2787" b="22744"/>
          <a:stretch/>
        </p:blipFill>
        <p:spPr>
          <a:xfrm>
            <a:off x="534960" y="2362320"/>
            <a:ext cx="8302680" cy="376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b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lipids and other 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bricates and protects the epi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ibits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16240" y="1752480"/>
            <a:ext cx="470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are the function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f sweat g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p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rmpits, around nipples, and g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r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on body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palms and 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p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s, not apoc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with hair foll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ticky, cloudy secre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and cause o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umentary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87" t="18039" r="1699" b="11141"/>
          <a:stretch/>
        </p:blipFill>
        <p:spPr>
          <a:xfrm>
            <a:off x="609480" y="1596960"/>
            <a:ext cx="8001000" cy="452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ocrine Sweat Gl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led, tubula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irectly onto skin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ble per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, salts, an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ctions of Merocrine Sw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es water and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es microorganisms and harmful chemicals fro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ts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taneous Membra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epithelium (epithelial tiss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derm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e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ory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te in the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rough the epidermis to skin surf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ellular exocrine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tory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vessels in the 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receptors for pain, touch, and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ubcutaneous Lay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cutaneous lay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8e4"/>
                </a:solidFill>
                <a:latin typeface="Arial"/>
              </a:rPr>
              <a:t>(superficial fascia or hypodermi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the derm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hypodermic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3:44:39Z</dcterms:created>
  <dc:creator>janet</dc:creator>
  <dc:description/>
  <dc:language>en-US</dc:language>
  <cp:lastModifiedBy>PritchaJ</cp:lastModifiedBy>
  <dcterms:modified xsi:type="dcterms:W3CDTF">2008-10-02T12:58:52Z</dcterms:modified>
  <cp:revision>6</cp:revision>
  <dc:subject/>
  <dc:title>Chapter 5:  The Integumentary System</dc:title>
</cp:coreProperties>
</file>