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469-3148-48C1-A834-3D368AE8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224-6371-4E86-B65B-76378140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7E0-758B-433E-ADF4-B22A6DE8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9F6-8E2F-4C72-B8A3-605520FB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A5D1-59A4-45D2-AA5D-86082C56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E08A-8459-487B-BF7B-EACD58DD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7892-D753-4DD1-9B6C-C3928AF1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F43B-A565-49FD-AA40-29B56279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EC15-858F-42F7-A223-D6996AA0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4B55-AD7C-4BC3-A5C3-933EAB64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680E-6D15-4AEC-A379-933F5DE8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4C5-EB35-4926-AFFC-8A149BBB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82BB-AEE1-4CD9-B42A-16F1E9A8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FEE6-6DF3-477E-9E82-7BAACAFD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7DFF-8D67-480F-9490-A1D85DB3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1DA8-596F-46B1-9C93-FA912482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AD4E-94C0-4A6F-A232-5999FAAA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3695-FD72-4C79-84EA-C4AFE7D5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0CF-0486-4B50-926C-3B5DDCE9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37B-F94C-4527-9708-4EAFD40E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8D0-30FD-4CAE-BAE9-638CEF72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717-9AEB-4FC8-9B68-4AF0FB60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CCE-6572-475E-90B7-18965BC9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52D-F39F-4535-9344-474374AC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7A84-53BE-4DEC-A571-0B544AF81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8C84-4EBE-4C2D-AB38-AB7F309B3F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Chapter 5: </a:t>
            </a: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The Integumentary Syste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s of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e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derlying tissues and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cre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alts, water, and organic wastes (gla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inta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dy temperature (insulation and evapor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s of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ynthesiz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itamin 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o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p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te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uch, pressure, pain, and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76520" y="175248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What are the main 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structures and functions 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of the epiderm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ells of the Epi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Keratin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 large amounts of kera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abundant cells in the epiderm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pi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scular stratified squamous epithel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ents and oxygen diffuse from capillaries in the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n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s most of the bo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4 layers of kerati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er of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germinativ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dermal rid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ge 1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spinos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ny 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 1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granulos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iny lay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 layers of skin on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lucid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in palms and so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are the structure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nd functions of the integumentary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1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corn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– 30 cell la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resistant – not waterp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ck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s the palms of the hands and soles of the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5 layers of kerati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Life Cyc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akes 15–30 days for a cell to move from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ratum germinos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ratum corn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219320" y="2787480"/>
            <a:ext cx="818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What causes different </a:t>
            </a:r>
            <a:br>
              <a:rPr sz="4400"/>
            </a:b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skin colo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Col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olor depends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gment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rote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lan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circulation (red cel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arote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ange-yellow pi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in orange vege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mulates in epidermal cells and fatty tissues of the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converted to vitamin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Melan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llow-brown or black pi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lan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stratum germinativ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d in transport vesicles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lanosom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red to kerati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 of Melanocy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anin protects skin from sun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ltraviolet (UV) radi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DNA mutations and burns which lead to cancer and wrink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lanocy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olor depends on melanin production, not number of mela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pillaries and Skin Col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ygenated red blood contributes to skin col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vessels dilate from heat, skin redd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flow decreases, skin 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ze of the Integ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tegu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largest system of the bod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% of body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5 to 2 m</a:t>
            </a:r>
            <a:r>
              <a:rPr b="0" lang="en-US" sz="2800" spc="-1" strike="noStrike" baseline="4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yano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ish skin t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d by severe reduction in blood flow or oxyge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llness and Skin Col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Jaund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up of bile produced by l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llow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ddison’s dise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other diseases of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ituitary 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n dark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What are the structures and functions of the dermi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located between epidermis and subcutaneous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chors epidermal accessory structures (hair follicles, sweat gland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acteristics of 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, due to collagen f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astic, due to elastic f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kin turg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Dam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gging and wrinkles (reduced skin elasticity) are caus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monal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V expo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nes of Cleav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gen and elastic fibers in the dermi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arranged in parallel bund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 force in a specific 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nical Import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ines of cleav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ablish important patter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allel cut remains shut, heal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ut across (right angle) pulls open and sc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nes of Cleav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26413" t="13505" r="22219" b="11382"/>
          <a:stretch/>
        </p:blipFill>
        <p:spPr>
          <a:xfrm>
            <a:off x="2822400" y="1600200"/>
            <a:ext cx="258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rmal Circul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rcRect l="24992" t="26808" r="24634" b="19688"/>
          <a:stretch/>
        </p:blipFill>
        <p:spPr>
          <a:xfrm>
            <a:off x="1643040" y="1600200"/>
            <a:ext cx="585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rts of the Integ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gument is made up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utaneous membra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k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ccessory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are the structure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nd functions of the subcutaneous 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Hypo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cutaneous lay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ypo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es below the integ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bilizes the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separate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are the skin glands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d secre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ocrine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baceous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oil gland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ocrine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b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weat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ocrine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y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Sebaceous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imple branched alveolar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ed with hair follic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baceous follic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directly onto skin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baceous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3274" t="30118" r="2787" b="22744"/>
          <a:stretch/>
        </p:blipFill>
        <p:spPr>
          <a:xfrm>
            <a:off x="534960" y="2362320"/>
            <a:ext cx="8302680" cy="3760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b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lipids and other ingred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bricates and protects the epi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ibits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16240" y="1752480"/>
            <a:ext cx="4708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are the functio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of sweat gl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Sweat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p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in armpits, around nipples, and gro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r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ely distributed on body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on palms and s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Apocrine Sweat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crine secretions, not apoc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ciated with hair foll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sticky, cloudy secre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 down and cause o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rts of th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tegumentary Syst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87" t="18039" r="1699" b="11141"/>
          <a:stretch/>
        </p:blipFill>
        <p:spPr>
          <a:xfrm>
            <a:off x="609480" y="1596960"/>
            <a:ext cx="8001000" cy="452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rocrine Sweat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called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ccrine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iled, tubular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directly onto skin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ible perspi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, salts, and organic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s of Merocrine Swe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ls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retes water and electrol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shes microorganisms and harmful chemicals from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rts of th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utaneous Membra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er </a:t>
            </a:r>
            <a:r>
              <a:rPr b="0" lang="en-US" sz="3200" spc="-1" strike="noStrike">
                <a:solidFill>
                  <a:srgbClr val="0088e4"/>
                </a:solidFill>
                <a:latin typeface="Arial"/>
              </a:rPr>
              <a:t>epi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ficial epithelium (epithelial tissu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er </a:t>
            </a:r>
            <a:r>
              <a:rPr b="0" lang="en-US" sz="3200" spc="-1" strike="noStrike">
                <a:solidFill>
                  <a:srgbClr val="0088e4"/>
                </a:solidFill>
                <a:latin typeface="Arial"/>
              </a:rPr>
              <a:t>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ve t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essory Struc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te in the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 through the epidermis to skin surfa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cellular exocrine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ne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culatory syst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vessels in the derm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ous syst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receptors for pain, touch, and 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ubcutaneous Lay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cutaneous lay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8e4"/>
                </a:solidFill>
                <a:latin typeface="Arial"/>
              </a:rPr>
              <a:t>(superficial fascia or hypodermi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se connective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the derm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of hypodermic inj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23:44:39Z</dcterms:created>
  <dc:creator>janet</dc:creator>
  <dc:description/>
  <dc:language>en-US</dc:language>
  <cp:lastModifiedBy>PritchaJ</cp:lastModifiedBy>
  <dcterms:modified xsi:type="dcterms:W3CDTF">2008-10-02T12:58:52Z</dcterms:modified>
  <cp:revision>6</cp:revision>
  <dc:subject/>
  <dc:title>Chapter 5:  The Integumentary System</dc:title>
</cp:coreProperties>
</file>