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F47D-6D2A-4D50-84E4-5BD5F760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5D83-6DEB-4B0D-A12F-49F357A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E1B4-E83A-4C1B-AF65-DDF81F85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C879-622D-4BF2-B554-00CE4669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0BB7-C206-4030-934E-ED4346DF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155C-B5D6-44B7-898B-27107982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1250-53DC-49FB-BB7D-4FA9ECB5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5D03-6B15-445E-BF92-F7255EBD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51BC-22F7-42D4-BE27-DBA5C3D1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1900-18FE-4318-BFF6-CEE1AA10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8A1F-BC31-4DA0-ABCE-70737EF4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EADB-FFE9-4E5A-873A-62807064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95F1-0E6C-4F1B-AEA0-63D1622E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4FD3-C146-42B1-9E3B-B91441A7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1D34-245E-4C7C-9DBA-879E7D78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5251-41EA-4A1A-8811-4404303D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BC00-EA0C-4BD7-9CFA-8BB1D224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10D0-2593-400E-B572-17656ABF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74FB-B33D-447D-A566-DA042000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0F4E-02FC-4D38-9081-A4ADD0E9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7703-D446-4434-9F6E-4935A3F9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2DD0-E98B-4277-9757-3F9AF70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B670-18E2-4285-A795-2CF46A4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01D5-1971-4289-99CF-2D116BF2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BC2C-5114-472E-83DA-E66A63D76A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B9F0-49EC-4E4C-A384-0358C90839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ay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Lordosis"/>
          <p:cNvPicPr/>
          <p:nvPr/>
        </p:nvPicPr>
        <p:blipFill>
          <a:blip r:embed="rId2"/>
          <a:stretch/>
        </p:blipFill>
        <p:spPr>
          <a:xfrm>
            <a:off x="457200" y="205740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li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in late childhood, early te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rls more likely than boy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run in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2109960"/>
            <a:ext cx="403848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oracic C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heart, lungs, thymus, &amp; other structures in the thoracic c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s as an attachment point for muscles involved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tenance of the position of the vertebral colum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ments of the pectoral girdle &amp; upper lim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b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Div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sternal (true) – ribs 1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ster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chondral (false) –ribs 8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cartila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(floating) – ribs 11 &amp;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brae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ern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b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the clavicles &amp;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ir of ri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ribs 2 - 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phoi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broken with strong pressure or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l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inal axi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u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o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colum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 cage (sternum and rib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un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ust the positions of the head, neck &amp; tru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respiratory mov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bilize or position parts of the appendicular skele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ku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s the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rds entrance to the digestive and respirato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Cerv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Thorac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Lum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Sacral – fuse into 1 sacrum (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Coccygeal – fuse into 1 coccy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or the head, neck &amp; tru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spinal 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maintain an upright body  posis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im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at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2 are you born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cond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r several months after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they appe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vi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your hea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m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tan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yph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nch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Kyphosis"/>
          <p:cNvPicPr/>
          <p:nvPr/>
        </p:nvPicPr>
        <p:blipFill>
          <a:blip r:embed="rId1"/>
          <a:stretch/>
        </p:blipFill>
        <p:spPr>
          <a:xfrm>
            <a:off x="3886200" y="198108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1:34:00Z</dcterms:created>
  <dc:creator>janet</dc:creator>
  <dc:description/>
  <dc:language>en-US</dc:language>
  <cp:lastModifiedBy>janet</cp:lastModifiedBy>
  <dcterms:modified xsi:type="dcterms:W3CDTF">2007-04-11T01:06:55Z</dcterms:modified>
  <cp:revision>9</cp:revision>
  <dc:subject/>
  <dc:title>Axial Skeleton</dc:title>
</cp:coreProperties>
</file>