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9462-2D83-4524-A0FD-029714D9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80BD-4ADC-46D1-86B4-C96B0832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9B61-4D36-4341-91BD-95DE3102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F43F-F36A-46A9-BB97-EA381424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58E-B263-4227-881A-6D17E853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73D-7402-40C8-BC0F-C61CF59F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3610-6D9C-487E-B2D4-7EBE8EAB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8A3-8865-4E75-AD86-E0C6826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ECC-AA62-44BF-B424-22C9DF7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8A18-D049-4C8D-AA8A-6B5D1B1A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E257-00B2-4F7E-A5BF-ADE4F71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52F8-055F-4E72-AF9F-60A343FB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3BC-E93E-44E8-B0FD-7642C95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66B6-D9E0-4A2A-8430-EC858F8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8CEE-9E02-4692-9A84-788E2663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1B9-0D5F-41BA-A3B1-075E7E44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EA06-2412-44F5-B22B-C02EFE9C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37BE-88B2-434C-8F6D-C1DC4B4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6644-89B4-47EE-AEFB-95E0601C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1C70-4080-4E62-8F7C-00C1E5E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2BF5-9441-42A7-9C37-55207CA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8EF7-3DFE-411F-B57B-BF3FBCF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4E9B-E19C-4428-ACA6-2EAE5AF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7209-037A-4C7F-9B9F-B8C158A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BA32-3B6E-49FE-88EE-57C9D60FAC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AAFE-2D7A-44D0-83C6-3785477A19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ay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Lordosis"/>
          <p:cNvPicPr/>
          <p:nvPr/>
        </p:nvPicPr>
        <p:blipFill>
          <a:blip r:embed="rId2"/>
          <a:stretch/>
        </p:blipFill>
        <p:spPr>
          <a:xfrm>
            <a:off x="457200" y="205740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li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in late childhood, early te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more likely than boy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un in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2109960"/>
            <a:ext cx="403848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racic C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heart, lungs, thymus, &amp; other structures in the thoracic c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an attachment point for muscles involved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tenance of the position of the vertebral colu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ments of the pectoral girdle &amp; upper lim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b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sternal (true) – ribs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ster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ochondral (false) –ribs 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vertebrae and cartil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(floating) – ribs 11 &amp;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bra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ernu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b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the clavicles &amp;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ir of ri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tes with ribs 2 - 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pho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broken with strong pressure or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l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xial Skelet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inal axi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 cage (sternum and rib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un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 the positions of the head, neck &amp; tru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respiratory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ilize or position parts of the appendicular skel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ku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ds entrance to the digestive and respir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Cerv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Thorac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Lum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Sacral – fuse into 1 sacrum (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Coccygeal – fuse into 1 coccy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rtebral Colum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the head, neck &amp; tru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maintain an upright body  posis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im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at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2 are you born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rac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condary Curva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 several months after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they app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v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your hea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m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tand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vature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yph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nchb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Kyphosis"/>
          <p:cNvPicPr/>
          <p:nvPr/>
        </p:nvPicPr>
        <p:blipFill>
          <a:blip r:embed="rId1"/>
          <a:stretch/>
        </p:blipFill>
        <p:spPr>
          <a:xfrm>
            <a:off x="3886200" y="198108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34:00Z</dcterms:created>
  <dc:creator>janet</dc:creator>
  <dc:description/>
  <dc:language>en-US</dc:language>
  <cp:lastModifiedBy>janet</cp:lastModifiedBy>
  <dcterms:modified xsi:type="dcterms:W3CDTF">2007-04-11T01:06:55Z</dcterms:modified>
  <cp:revision>9</cp:revision>
  <dc:subject/>
  <dc:title>Axial Skeleton</dc:title>
</cp:coreProperties>
</file>