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9125-0C2B-4D95-83BB-DD54C8BF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6A6E-305E-44F2-9500-2CC829AE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4E1D-93B8-4124-AF65-C2023583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ED83-222A-4329-B106-D6B52D09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16EC-1CA1-474D-BB0F-29220284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B313-E17A-4B4E-8010-672DEDD8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5B1E-2689-4B22-A262-13853055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5AE4-C05D-4A38-A392-EC39116A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1310-B1DD-4F5B-AB8C-2BA80253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C162-0BA1-4AA3-A0FC-22953EBE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AFEA-6BB8-4EBD-B14C-85FE667F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5556B-A687-4915-8DEC-46C1B4DA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94C7-CFDA-483F-AA68-83C70A9C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4B8F-B8BF-47AE-BCF9-33EB4CCA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E7AD-62F7-4791-BCFA-8CC4D147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F807-CDAE-4243-A08A-8312A9F9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8186-E67C-447A-8AEB-F16A9908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EE41-8158-43F8-B267-914B1A8E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4F56-C161-4E8E-87B3-9BAA1B02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317D4-2AC0-48D2-918B-65D01BBE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06CF-2EA1-47B2-B4F9-5C512E75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D84E-EAEF-47CF-8614-7659CD8D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4B2F-D040-4AE3-8235-6133126B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6BF5-E56F-4200-9FBB-70A569C3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5285-27EB-490D-B40B-2CB829122D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8976-C3E9-48AD-9762-7BCC6A45CA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xial Skelet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wayb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Lordosis"/>
          <p:cNvPicPr/>
          <p:nvPr/>
        </p:nvPicPr>
        <p:blipFill>
          <a:blip r:embed="rId2"/>
          <a:stretch/>
        </p:blipFill>
        <p:spPr>
          <a:xfrm>
            <a:off x="457200" y="205740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li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 in late childhood, early te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rls more likely than boy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run in fami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0" y="2109960"/>
            <a:ext cx="403848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oracic Cag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s the heart, lungs, thymus, &amp; other structures in the thoracic c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s as an attachment point for muscles involved 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ntenance of the position of the vertebral colum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ements of the pectoral girdle &amp; upper lim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ib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p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Divi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osternal (true) – ribs 1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 vertebrae and ster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ochondral (false) –ribs 8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 vertebrae and cartila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al (floating) – ribs 11 &amp;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tebrae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ernu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Com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ub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tes with the clavicles &amp;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ir of ri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tes with ribs 2 - 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phoid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broken with strong pressure or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mage to l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xial Skelet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inal axis of the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u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o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al colum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racic cage (sternum and rib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unctio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just the positions of the head, neck &amp; tru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 respiratory mov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bilize or position parts of the appendicular skele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ku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ts the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ards entrance to the digestive and respiratory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ertebral Colum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Cerv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Thorac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Lumb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Sacral – fuse into 1 sacrum (25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Coccygeal – fuse into 1 coccy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ertebral Column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for the head, neck &amp; tru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s the spinal 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s maintain an upright body  posis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imary Curva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at 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2 are you born wit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rac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econdary Curva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ear several months after 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they appea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vic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 your head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mb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ility to stand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yph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nchb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Kyphosis"/>
          <p:cNvPicPr/>
          <p:nvPr/>
        </p:nvPicPr>
        <p:blipFill>
          <a:blip r:embed="rId1"/>
          <a:stretch/>
        </p:blipFill>
        <p:spPr>
          <a:xfrm>
            <a:off x="3886200" y="1981080"/>
            <a:ext cx="4800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1:34:00Z</dcterms:created>
  <dc:creator>janet</dc:creator>
  <dc:description/>
  <dc:language>en-US</dc:language>
  <cp:lastModifiedBy>janet</cp:lastModifiedBy>
  <dcterms:modified xsi:type="dcterms:W3CDTF">2007-04-11T01:06:55Z</dcterms:modified>
  <cp:revision>9</cp:revision>
  <dc:subject/>
  <dc:title>Axial Skeleton</dc:title>
</cp:coreProperties>
</file>