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BBF3-8709-42A1-94AB-57BF5A7C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730E-C769-4084-9713-7CEC058C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C62A-EEA8-423D-81B6-FA4E99EC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29F4-7DFB-4D3B-9002-71DA0957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E07C-6C5B-4F12-87E8-40EAF893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549B-DF5B-4C83-B118-8C75A7C1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660A-F02E-4A3E-A47A-B3C27F03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5C4E-2252-4A5A-920A-E7B91AF9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4809-CA30-4C64-940A-48B922AB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6F6C-EF74-4630-B07C-104F2CB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77D1-6B6A-4288-9659-37235EF1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0BE5-5A8B-4634-9264-17857BFD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0645-4950-4D53-B808-B89182F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AD0B-7EEA-4077-A08B-9B4CC1C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56D6-2E68-4B92-B726-0512D218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E3D2-8C2D-4686-A55A-5E76916F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850B-58D6-428B-8FFB-59852674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8E56-9BAB-432D-A4C9-10C1E57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4065-942A-4DA9-8577-6EF556DC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198F-D5AF-49D0-BC87-2F5F923B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FC52-36AC-407F-A2E5-FBD4D17A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4BC1-1684-48F2-9506-ABCB2314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A917-B558-490D-BFB7-7F475A3C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DCEE-B904-4EAE-BE7C-16AFF6FF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3A51-0332-4A2D-9A09-DED4F2848C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46CF-9077-44C4-AA33-A5590B23A3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ay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Lordosis"/>
          <p:cNvPicPr/>
          <p:nvPr/>
        </p:nvPicPr>
        <p:blipFill>
          <a:blip r:embed="rId2"/>
          <a:stretch/>
        </p:blipFill>
        <p:spPr>
          <a:xfrm>
            <a:off x="457200" y="205740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li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in late childhood, early te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rls more likely than boy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run in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2109960"/>
            <a:ext cx="403848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oracic C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heart, lungs, thymus, &amp; other structures in the thoracic c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s as an attachment point for muscles involved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tenance of the position of the vertebral colum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ments of the pectoral girdle &amp; upper lim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b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Div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sternal (true) – ribs 1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ster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chondral (false) –ribs 8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cartila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(floating) – ribs 11 &amp;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brae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ern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b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the clavicles &amp;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ir of ri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ribs 2 - 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phoi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broken with strong pressure or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l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inal axi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u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o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colum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 cage (sternum and rib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un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ust the positions of the head, neck &amp; tru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respiratory mov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bilize or position parts of the appendicular skele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ku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s the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rds entrance to the digestive and respirato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Cerv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Thorac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Lum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Sacral – fuse into 1 sacrum (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Coccygeal – fuse into 1 coccy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or the head, neck &amp; tru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spinal 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maintain an upright body  posis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im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at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2 are you born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cond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r several months after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they appe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vi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your hea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m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tan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yph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nch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Kyphosis"/>
          <p:cNvPicPr/>
          <p:nvPr/>
        </p:nvPicPr>
        <p:blipFill>
          <a:blip r:embed="rId1"/>
          <a:stretch/>
        </p:blipFill>
        <p:spPr>
          <a:xfrm>
            <a:off x="3886200" y="198108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1:34:00Z</dcterms:created>
  <dc:creator>janet</dc:creator>
  <dc:description/>
  <dc:language>en-US</dc:language>
  <cp:lastModifiedBy>janet</cp:lastModifiedBy>
  <dcterms:modified xsi:type="dcterms:W3CDTF">2007-04-11T01:06:55Z</dcterms:modified>
  <cp:revision>9</cp:revision>
  <dc:subject/>
  <dc:title>Axial Skeleton</dc:title>
</cp:coreProperties>
</file>