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C5BA-8EB0-43E1-AFCF-8FD0DDF38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16B5-275A-4199-83FA-39681DE41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9E82-1905-461B-B0E0-B86057261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763F-1456-4D89-B452-20CBD28F8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75E3B-89E1-4D9C-95E7-73DEC3A06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49025-7982-4C8B-83E0-1EBBEDC9E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44CE8-EBEC-4E81-B28C-D04DAA5B3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8241D-AE16-4193-8257-E49C6CD72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3B68E-9A67-419F-987C-E53588552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8584D-BA96-4C49-8D4F-7F4A4900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24B5D-621F-4244-BBE1-49908175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74BC-41A1-4924-BAF8-5BA26DB02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D6048-9CD8-4E39-8052-612986BE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A16F1-01DA-43B5-886F-CD1B9A02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2605D-88A6-4809-89A2-442E3AD19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BC457-B3CD-4119-BB7F-2BDC84DA2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8EF8C-2E5F-48E8-81D5-EDFB43CB5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E413-0ED4-46DD-9047-793441682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6050-7565-46F0-9333-619A04C73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251E-82D2-4B59-9D99-3C1F0C99A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42AE-EA63-4DBE-BA90-C9A240FF6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CAB3-2EA2-4F36-B7C4-D2D6C0FB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F3A0-567B-445F-BD28-BD1A523D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E027-1A45-42EA-BDF2-8D1E56B5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19960" indent="-22392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568160" indent="-223920">
              <a:spcBef>
                <a:spcPts val="901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16000" indent="-223920">
              <a:spcBef>
                <a:spcPts val="901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03729-24D9-4C8C-AA61-89ED1C402689}" type="slidenum">
              <a:rPr b="0" lang="en-US" sz="16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1" descr="Cardinal"/>
          <p:cNvPicPr/>
          <p:nvPr/>
        </p:nvPicPr>
        <p:blipFill>
          <a:blip r:embed="rId2"/>
          <a:stretch/>
        </p:blipFill>
        <p:spPr>
          <a:xfrm>
            <a:off x="7543800" y="5029200"/>
            <a:ext cx="1047600" cy="80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2" descr="Cardinal"/>
          <p:cNvPicPr/>
          <p:nvPr/>
        </p:nvPicPr>
        <p:blipFill>
          <a:blip r:embed="rId2"/>
          <a:stretch/>
        </p:blipFill>
        <p:spPr>
          <a:xfrm flipH="1">
            <a:off x="0" y="0"/>
            <a:ext cx="3029040" cy="2313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19960" indent="-22392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568160" indent="-223920">
              <a:spcBef>
                <a:spcPts val="901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16000" indent="-223920">
              <a:spcBef>
                <a:spcPts val="901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3D55D-2406-4B96-A620-17F06EC280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00"/>
                </a:solidFill>
                <a:latin typeface="Palatino Linotype"/>
              </a:rPr>
              <a:t>The Urinary System</a:t>
            </a:r>
            <a:endParaRPr b="0" lang="en-US" sz="7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5146200"/>
            <a:ext cx="64008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The Urinary Bladder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4796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ccumulates &amp; stores urine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ransitional epithelium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Rugae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rigone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Floor of the bladder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3 openings (2 ureters, 1urethra)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11" name="Picture 8" descr="http://www.web-books.com/eLibrary/Medicine/Physiology/Urinary/bladder.jpg"/>
          <p:cNvPicPr/>
          <p:nvPr/>
        </p:nvPicPr>
        <p:blipFill>
          <a:blip r:embed="rId1"/>
          <a:stretch/>
        </p:blipFill>
        <p:spPr>
          <a:xfrm>
            <a:off x="457200" y="2362320"/>
            <a:ext cx="403848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The Urinary Bladder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nternal urinary sphincter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involuntary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Holds up to 1 liter of water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Feeling to void at 20%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15" name="Picture 2" descr="http://www.web-books.com/eLibrary/Medicine/Physiology/Urinary/bladder.jpg"/>
          <p:cNvPicPr/>
          <p:nvPr/>
        </p:nvPicPr>
        <p:blipFill>
          <a:blip r:embed="rId1"/>
          <a:stretch/>
        </p:blipFill>
        <p:spPr>
          <a:xfrm>
            <a:off x="0" y="2819520"/>
            <a:ext cx="480060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The Urethra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Passageway between  bladder to the bodies exterior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Controlled by a voluntary sphincter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Voiding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In infants the external sphincter is not yet under voluntary contro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Incontinence – loss of control of the external sphincter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Voiding Disorders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519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Anuria – lack of urine production (renal failure)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Urinary retention – urine produced by not expelled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Oliguria – decreased urine production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Polyuria – excessive volumes of urine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Nephrons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876560" y="160020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Where urine production begins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Located in the cortex of each renal lobe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llows for blood filtration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25" name="Picture 2" descr="http://openlearn.open.ac.uk/file.php/2815/S324_1_029i.jpg"/>
          <p:cNvPicPr/>
          <p:nvPr/>
        </p:nvPicPr>
        <p:blipFill>
          <a:blip r:embed="rId1"/>
          <a:stretch/>
        </p:blipFill>
        <p:spPr>
          <a:xfrm>
            <a:off x="152280" y="1676520"/>
            <a:ext cx="47246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http://openlearn.open.ac.uk/file.php/2815/S324_1_029i.jpg"/>
          <p:cNvPicPr/>
          <p:nvPr/>
        </p:nvPicPr>
        <p:blipFill>
          <a:blip r:embed="rId2"/>
          <a:stretch/>
        </p:blipFill>
        <p:spPr>
          <a:xfrm>
            <a:off x="0" y="1676520"/>
            <a:ext cx="48578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Functions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Excretion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Elimination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Homeostatic Regulation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Volume and solute concentration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Homeostasis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876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Palatino Linotype"/>
              </a:rPr>
              <a:t>Regulate blood volume &amp; blood pressure</a:t>
            </a:r>
            <a:endParaRPr b="0" lang="en-US" sz="3500" spc="-1" strike="noStrike">
              <a:solidFill>
                <a:srgbClr val="000000"/>
              </a:solidFill>
              <a:latin typeface="Palatino Linotype"/>
            </a:endParaRPr>
          </a:p>
          <a:p>
            <a:pPr marL="322200" indent="-322200">
              <a:spcBef>
                <a:spcPts val="876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Palatino Linotype"/>
              </a:rPr>
              <a:t>Regulate plasma concentrations of sodium, potassium, chloride &amp; other ions</a:t>
            </a:r>
            <a:endParaRPr b="0" lang="en-US" sz="3500" spc="-1" strike="noStrike">
              <a:solidFill>
                <a:srgbClr val="000000"/>
              </a:solidFill>
              <a:latin typeface="Palatino Linotype"/>
            </a:endParaRPr>
          </a:p>
          <a:p>
            <a:pPr marL="322200" indent="-322200">
              <a:spcBef>
                <a:spcPts val="876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Palatino Linotype"/>
              </a:rPr>
              <a:t>Helps stabilize blood pH</a:t>
            </a:r>
            <a:endParaRPr b="0" lang="en-US" sz="3500" spc="-1" strike="noStrike">
              <a:solidFill>
                <a:srgbClr val="000000"/>
              </a:solidFill>
              <a:latin typeface="Palatino Linotype"/>
            </a:endParaRPr>
          </a:p>
          <a:p>
            <a:pPr marL="322200" indent="-322200">
              <a:spcBef>
                <a:spcPts val="876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Palatino Linotype"/>
              </a:rPr>
              <a:t>Conserves valuable nutrients</a:t>
            </a:r>
            <a:endParaRPr b="0" lang="en-US" sz="3500" spc="-1" strike="noStrike">
              <a:solidFill>
                <a:srgbClr val="000000"/>
              </a:solidFill>
              <a:latin typeface="Palatino Linotype"/>
            </a:endParaRPr>
          </a:p>
          <a:p>
            <a:pPr marL="322200" indent="-322200">
              <a:spcBef>
                <a:spcPts val="876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Palatino Linotype"/>
              </a:rPr>
              <a:t>Assists the liver in detoxification</a:t>
            </a:r>
            <a:endParaRPr b="0" lang="en-US" sz="3500" spc="-1" strike="noStrike">
              <a:solidFill>
                <a:srgbClr val="000000"/>
              </a:solidFill>
              <a:latin typeface="Palatino Linotype"/>
            </a:endParaRPr>
          </a:p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Organs Involved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Kidneys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Ureters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Urinary bladder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Urethra 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Kidneys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Workhorse of the system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Form in week 5 of human embryology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Functional at week 9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Associated structures not fully functional until after birth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External Anatomy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Bean-shaped 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Bilaterally located near the abdominal midline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Left kidney little superior to right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Cushioned with fat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Inward curve 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Renal arteries &amp; veins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External Anatomy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99" name="Picture 2" descr="http://medicalartlibrary.com/images/kidney-anatomy.jpg"/>
          <p:cNvPicPr/>
          <p:nvPr/>
        </p:nvPicPr>
        <p:blipFill>
          <a:blip r:embed="rId1"/>
          <a:stretch/>
        </p:blipFill>
        <p:spPr>
          <a:xfrm>
            <a:off x="2590920" y="1600200"/>
            <a:ext cx="3733560" cy="45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Internal Anatomy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4796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Renal (kidney) cortex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uperficial layer - lighter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Renal (kidney) medulla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Renal pyramids 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Triangular collections 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Urine collection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Renal pelvis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Urine is “dumped” here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03" name="Picture 9" descr="http://i27.photobucket.com/albums/c190/lovesthesunset/anatomy%20and%20physiology/kidneycortexandmedulla2.gif"/>
          <p:cNvPicPr/>
          <p:nvPr/>
        </p:nvPicPr>
        <p:blipFill>
          <a:blip r:embed="rId1"/>
          <a:stretch/>
        </p:blipFill>
        <p:spPr>
          <a:xfrm>
            <a:off x="609480" y="2286000"/>
            <a:ext cx="388620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The Ureters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Long, thin muscular tubes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Urine transport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07" name="Picture 2" descr="http://training.seer.cancer.gov/module_anatomy/images/illu_urinary_system.jpg"/>
          <p:cNvPicPr/>
          <p:nvPr/>
        </p:nvPicPr>
        <p:blipFill>
          <a:blip r:embed="rId1"/>
          <a:stretch/>
        </p:blipFill>
        <p:spPr>
          <a:xfrm>
            <a:off x="4681440" y="2362320"/>
            <a:ext cx="41943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8:19:54Z</dcterms:created>
  <dc:creator>Nan Shastry</dc:creator>
  <dc:description/>
  <dc:language>en-US</dc:language>
  <cp:lastModifiedBy>Janet</cp:lastModifiedBy>
  <dcterms:modified xsi:type="dcterms:W3CDTF">2009-03-22T22:37:53Z</dcterms:modified>
  <cp:revision>11</cp:revision>
  <dc:subject/>
  <dc:title>Slide 1</dc:title>
</cp:coreProperties>
</file>