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E8B-51CC-4153-96A9-439273E5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1FE-EBF5-4061-8482-3D007D2D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C1C-518B-4CB8-AD19-AEFFA7BC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3BF-3FA4-4CA0-B78B-B7F00494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7843-9659-4120-A7FB-460A26CF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3594-DE91-40A6-8CA7-C4A31F72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4008-A04B-4745-AEC7-F239F820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47D4-5D90-451C-BC84-A672346D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686D-5752-4EC5-ABB4-59189C15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A761-EE47-491F-9B8C-1CDA8816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C3B9-E4D0-41C8-A358-157FCC95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B40-CEC0-4873-B360-1C838828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BEC9-D25E-4A3C-809D-06108DA7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6A9F-575C-40D7-ACCE-74462AEA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E90F-F34B-42FC-A8A1-6C79E0B9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4CEE-88FA-4B7C-AA54-FB43B524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D128-7F48-4C60-8431-3C2E4A6A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BB1-52D8-4006-A278-D05720FA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E10-01D5-4659-91E4-802F90D7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15F-1A16-45A3-A733-DC2BA50F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AB7-29AB-49F3-B3A3-7310F8A0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3C9-D1EE-4AA4-A5C0-7EAE1F4E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9C6-F8B6-4B3D-A3D9-EB4F8F80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A0C-C18F-4153-88FF-C4A8F1C1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A652-557E-4CC6-999D-656ED6E040DE}" type="slidenum"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Cardinal"/>
          <p:cNvPicPr/>
          <p:nvPr/>
        </p:nvPicPr>
        <p:blipFill>
          <a:blip r:embed="rId2"/>
          <a:stretch/>
        </p:blipFill>
        <p:spPr>
          <a:xfrm>
            <a:off x="7543800" y="5029200"/>
            <a:ext cx="104760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Cardinal"/>
          <p:cNvPicPr/>
          <p:nvPr/>
        </p:nvPicPr>
        <p:blipFill>
          <a:blip r:embed="rId2"/>
          <a:stretch/>
        </p:blipFill>
        <p:spPr>
          <a:xfrm flipH="1">
            <a:off x="0" y="0"/>
            <a:ext cx="3029040" cy="23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95F9-282A-418C-A378-B77FE8475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Palatino Linotype"/>
              </a:rPr>
              <a:t>The Urinary System</a:t>
            </a:r>
            <a:endParaRPr b="0" lang="en-US" sz="7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146200"/>
            <a:ext cx="6400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cumulates &amp; stores urin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ansitional epitheliu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uga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igon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loor of the bladd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3 openings (2 ureters, 1urethra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1" name="Picture 8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rnal urinary sphincte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voluntar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lds up to 1 liter of wate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eling to void at 20%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Picture 2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0" y="2819520"/>
            <a:ext cx="4800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hra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assageway between  bladder to the bodies exterio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rolled by a voluntary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 infants the external sphincter is not yet under voluntary contro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continence – loss of control of the external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 Disord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nuria – lack of urine production (renal failure)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retention – urine produced by not expelled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Oliguria – decreased urine produc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lyuria – excessive volumes of ur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Nephr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re urine production begin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cated in the cortex of each renal lob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lows for blood filtr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2" descr="http://openlearn.open.ac.uk/file.php/2815/S324_1_029i.jpg"/>
          <p:cNvPicPr/>
          <p:nvPr/>
        </p:nvPicPr>
        <p:blipFill>
          <a:blip r:embed="rId1"/>
          <a:stretch/>
        </p:blipFill>
        <p:spPr>
          <a:xfrm>
            <a:off x="152280" y="1676520"/>
            <a:ext cx="4724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openlearn.open.ac.uk/file.php/2815/S324_1_029i.jpg"/>
          <p:cNvPicPr/>
          <p:nvPr/>
        </p:nvPicPr>
        <p:blipFill>
          <a:blip r:embed="rId2"/>
          <a:stretch/>
        </p:blipFill>
        <p:spPr>
          <a:xfrm>
            <a:off x="0" y="1676520"/>
            <a:ext cx="4857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Functi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limin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Homeostatic Regul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Volume and solute concentr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Homeostasi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blood volume &amp; blood pressure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plasma concentrations of sodium, potassium, chloride &amp; other ion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Helps stabilize blood pH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Conserves valuable nutrient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Assists the liver in detoxification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Organs Involve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er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bladd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hra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Workhorse of the system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rm in week 5 of human embryology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unctional at week 9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ssociated structures not fully functional until after birth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ean-shaped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ilaterally located near the abdominal midl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eft kidney little superior to righ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ushioned with f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ward curve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nal arteries &amp; vein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9" name="Picture 2" descr="http://medicalartlibrary.com/images/kidney-anatomy.jpg"/>
          <p:cNvPicPr/>
          <p:nvPr/>
        </p:nvPicPr>
        <p:blipFill>
          <a:blip r:embed="rId1"/>
          <a:stretch/>
        </p:blipFill>
        <p:spPr>
          <a:xfrm>
            <a:off x="2590920" y="1600200"/>
            <a:ext cx="373356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In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cortex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uperficial layer - light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medull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nal pyramids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riangular collections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rine collectio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rine is “dumped” her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3" name="Picture 9" descr="http://i27.photobucket.com/albums/c190/lovesthesunset/anatomy%20and%20physiology/kidneycortexandmedulla2.gif"/>
          <p:cNvPicPr/>
          <p:nvPr/>
        </p:nvPicPr>
        <p:blipFill>
          <a:blip r:embed="rId1"/>
          <a:stretch/>
        </p:blipFill>
        <p:spPr>
          <a:xfrm>
            <a:off x="609480" y="2286000"/>
            <a:ext cx="38862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ng, thin muscular tub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rine transpor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2" descr="http://training.seer.cancer.gov/module_anatomy/images/illu_urinary_system.jpg"/>
          <p:cNvPicPr/>
          <p:nvPr/>
        </p:nvPicPr>
        <p:blipFill>
          <a:blip r:embed="rId1"/>
          <a:stretch/>
        </p:blipFill>
        <p:spPr>
          <a:xfrm>
            <a:off x="4681440" y="2362320"/>
            <a:ext cx="4194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8:19:54Z</dcterms:created>
  <dc:creator>Nan Shastry</dc:creator>
  <dc:description/>
  <dc:language>en-US</dc:language>
  <cp:lastModifiedBy>Janet</cp:lastModifiedBy>
  <dcterms:modified xsi:type="dcterms:W3CDTF">2009-03-22T22:37:53Z</dcterms:modified>
  <cp:revision>11</cp:revision>
  <dc:subject/>
  <dc:title>Slide 1</dc:title>
</cp:coreProperties>
</file>